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48B-AF46-4B93-BA5B-FCBB888B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A37-7211-4ABF-B59F-3733D12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CE7-3491-45CE-A193-C7499DB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4F1-BAEF-4344-BB5F-670998FF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A68-ECDF-4F1C-94E1-1E52D22D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136-C073-4A11-B201-D5E3A43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BB5-4A2F-4F82-9055-59C7145C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9F6-63A7-493E-8F4B-3C62A5C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353-C307-4C4F-AED6-1B056AB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D20-42E2-4552-AD56-44420C4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63E-8201-4A70-A6C4-75C1651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BCE-410C-499E-A97A-4B6B374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C3C-9EEE-4C4E-9BC3-43E739FB7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349360"/>
            <a:ext cx="3918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怀念母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——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0" y="1181160"/>
            <a:ext cx="1695600" cy="4495320"/>
            <a:chOff x="6858000" y="1181160"/>
            <a:chExt cx="1695600" cy="449532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6858000" y="323820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“生身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48Z</dcterms:modified>
  <cp:revision>270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