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D31-7B57-4D67-A9FF-B0445DF6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DBC-E30C-47C8-AECC-E78AC3E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E91-9768-4842-8309-EB612346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9C2-FA02-4E40-B7C9-F4FCFDA4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7F70-0153-400C-AB68-241A5CCC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0E98-A311-4B82-B88D-3CCB0F1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5A2D-969C-41B6-A23E-8BBF681E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AD3-AAE5-4935-9AC7-D8C9DCF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3E72-D82A-4055-BFC5-0D1F6F1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FB0E-AF78-4782-BB67-7FF41069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2A0-976F-42CA-ABF9-B089682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449-3D10-45B9-B0C7-04CD8B9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0800-D36D-476F-B887-746B90C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0F4A-AAA1-4DFC-A310-8128A1A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192-8F45-4829-B5A1-CECB0FF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724-DE42-4FDE-A2F9-83ECF8D3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5969-8B2F-487B-9351-07492BF7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915-1F87-4BE0-BC0D-5DE51AA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152-8C9B-46FF-BA23-4D5585B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383-2B1E-420E-8297-9CA3EA8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FEE-B459-44AB-B31F-1B58E2B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7CB-93A1-4427-BB04-D93DF3E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E17-6080-4CAC-9B16-C6A484B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18F-1DC3-4950-B4B8-5615A43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1D92-5049-44B3-A56B-793BBF8518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27A-BDA8-4A93-8412-8DB2E75D3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09680" y="1676520"/>
            <a:ext cx="4610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宋体"/>
              </a:rPr>
              <a:t>山 中 访 友</a:t>
            </a:r>
            <a:endParaRPr b="0" lang="en-US" sz="6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4648320"/>
            <a:ext cx="1219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云雀——弟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10331030316202c2ba9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09480" y="6094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石头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90720" y="10666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落叶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67080" y="24004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花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010402030205008c918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828800" y="52578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阵雨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030301021003117_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886200" y="3200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老柏树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762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——小弟弟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457200"/>
            <a:ext cx="52578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古桥——老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树林——知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山泉——姐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溪流——妹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白云——大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瀑布——大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悬崖——爷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云雀——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石头、落叶、小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蚂蚁小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168840" y="2723400"/>
            <a:ext cx="2247840" cy="15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山中访友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685800" y="533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品一品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所说的山中访友，不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吗，那我把题目改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”，你觉得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914400" y="609480"/>
            <a:ext cx="1828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朗读比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60d"/>
                </a:solidFill>
                <a:latin typeface="Times New Roman"/>
              </a:rPr>
              <a:t>（分甲乙两组，每组选派一名选手，读完后请两组派代表进行点评）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60948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点评参考（一分为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吐字清晰，语音准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语速适中，语气舒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轻重音处理以及停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课文感情韵味的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放声自由朗读，而后小组研讨</a:t>
            </a: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7429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扫清朗读时遇到的文字障碍 ， 小组中仍未能解决的请上来写到黑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找一找作者拜访了哪些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写一写 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采用的是说话方式向他的大自然朋友打招呼，我们也尝试一下用“你好”写一句话，向我们的大自然朋友打一下招呼，好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如松树、小草、白鹭…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384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收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3520" y="2742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5f9d8"/>
                </a:solidFill>
                <a:latin typeface="Times New Roman"/>
              </a:rPr>
              <a:t>作者进山看景，像是走到了亲朋好友当中，他为什么把山林当成家，他想告诉我们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38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781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一个好天气，与好友结伴到郊外走走，去触摸大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你是某一景物，面对来往形形色色的游人，你对游人说说心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感情地朗读《山中访友》两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小桥流水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24080" y="5335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宋体"/>
              </a:rPr>
              <a:t>古桥——老朋友</a:t>
            </a:r>
            <a:endParaRPr b="0" lang="en-US" sz="24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tureqqi6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895480" y="53341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树林——知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4120" y="4876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山泉——姐姐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溪流——妹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10501030321062c2c25_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914400" y="59436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白云——大嫂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1905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80520"/>
            <a:ext cx="5562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556272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瀑布大哥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743200" y="304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悬崖——爷爷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36:26Z</dcterms:created>
  <dc:creator>Tomas</dc:creator>
  <dc:description/>
  <dc:language>en-US</dc:language>
  <cp:lastModifiedBy>微软用户</cp:lastModifiedBy>
  <dcterms:modified xsi:type="dcterms:W3CDTF">2010-06-20T04:10:28Z</dcterms:modified>
  <cp:revision>59</cp:revision>
  <dc:subject/>
  <dc:title>山中访友</dc:title>
</cp:coreProperties>
</file>