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60B-6BA0-439D-9C91-65CF9D6C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C5F-56DB-4AE5-BC6A-2809684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AF8-EC32-492C-8FBD-686B79D9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66C-7EB9-4AC2-AA29-C9DFA4C6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BCD-B102-41EF-8CFD-B892FC26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B0F-7ADE-4EDE-887C-DBE27E4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E22-C7E7-4ADA-8690-80A01465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C2B-FB97-4023-A08A-8AA69D6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5C2-2884-4507-A7CC-EA2B0A42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D28-7B72-4C87-BBD8-6F99AE3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87C-4172-4A9F-9F8F-78557D35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400-F110-4ABE-B5F6-E638929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90A2-DFCA-40A6-95E7-EAFF0C306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916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最 后 一 头 战 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1360" y="692280"/>
            <a:ext cx="511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土坑约有三米深，嘎羧卧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坑底，侧着脸，鼻子盘在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弯，一只眼睛睁得老大，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望着天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风凛凛   排山倒海   势不可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焦躁不安   漫不经心   久别重逢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恍然大悟   泣不成声   震耳欲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炯炯有神   长途跋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7336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49360"/>
            <a:ext cx="8748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认真读课文，找出描写嘎羧行为、神态的句子，体会嘎羧的高尚情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有感情地朗读课文，感受深情地语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835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提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默读课文相应部分，用“—”画出描写嘎羧行为、神态的句子，把体会写在旁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有感情地朗读课文，并体会嘎羧的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907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没想到，嘎羧见了，一下子安静下来，用鼻子呼呼吹去上面的灰尘，鼻尖久久地在上面摩挲着，眼睛里泪光闪闪，像是见到久别重逢的老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981000"/>
            <a:ext cx="8893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老人和孩子捧着香蕉、甘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和糯米粑粑，送到嘎羧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边，它什么也没吃，只喝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点水，绕着寨子走了三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嘎羧走了整整一夜，天亮时，来到打洛江畔。它站在江滩的卵石上，久久凝望着清波荡漾的江面。然后，它踩着哗哗流淌的江水，走到一块龟形礁石上亲了又亲，许久又昂起头来，向着天边那轮火红的朝阳，发出震耳欲聋的吼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549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年，象兵在西双版纳打洛江畔和日寇打了一仗。战斗结束后，鬼子扔下了七十多具尸体，我方八十多头战象全部中弹倒地。人们在打洛江边挖了一个巨坑，隆重埋葬阵亡的战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嘎羧久久的凝望里，它一定看到了二十六年前惊心动魄的一幕：威武雄壮的战象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日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最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了又亲的礁石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它的吼声里听出，它在深情呼唤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灵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诉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告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19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5:28Z</dcterms:modified>
  <cp:revision>28</cp:revision>
  <dc:subject>六十铺中小学教育网http://www.lspjy.com</dc:subject>
  <dc:title>六十铺中小学教育网http://www.lspjy.com</dc:title>
</cp:coreProperties>
</file>