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wmf" ContentType="image/x-wmf"/>
  <Override PartName="/ppt/media/image13.png" ContentType="image/png"/>
  <Override PartName="/ppt/media/image16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7.jpeg" ContentType="image/jpeg"/>
  <Override PartName="/ppt/media/image15.gif" ContentType="image/gif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215-8924-4567-B6DF-A9C1B34A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D62-800C-488A-9DE2-63DC2C83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ECD-B368-4D3C-97D2-7C068D06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6F3-E255-4AC6-9813-0CE67EEC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8B12-004C-408D-BB4D-0898C987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B61-DF2E-4C77-99BA-587AD5EB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1A2F-8A55-4258-8D20-506DE533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E5E1-D9FF-40E0-929F-50C7F35A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6DFC-00D2-478F-936B-7044DEF6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CB49-D7DA-4A3D-86C7-482E950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5EB6-BC8F-475E-B7F3-7CF9C76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669-7F56-4291-8FFD-C2496C0F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FF98-59B3-4D96-A161-BD5A800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84D9-7A67-457E-A3E5-EE769C66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F015-64BD-4373-A65A-0503B27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4B3D-5274-4CD8-B54D-177ECD8D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6EE-5A41-45D6-80E2-E7B6C4AA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83A-EC21-43EA-A868-B3B65099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89F-9B48-4FF2-A755-AEA939E1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599-D463-42CB-93D5-308FC155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CE8-DB35-490D-BD6C-54B47ACC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B7A-8122-4DAB-A016-1420662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DDA-8B60-424D-939F-12C3FDE0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803-7623-476C-8FD8-886720C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1179-C662-4732-A09E-6AD868E4A5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F18C-33DA-4E11-9036-BA628A58950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flipH="1">
            <a:off x="8101080" y="404640"/>
            <a:ext cx="48744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792000" cy="61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flipH="1">
            <a:off x="1828800" y="3886200"/>
            <a:ext cx="287280" cy="228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059280" y="404640"/>
            <a:ext cx="307800" cy="16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274920" y="620640"/>
            <a:ext cx="308160" cy="16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505320" y="4005360"/>
            <a:ext cx="380880" cy="10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79640" y="2421000"/>
            <a:ext cx="547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唯一的听众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63640" y="333360"/>
            <a:ext cx="4608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2209680"/>
            <a:ext cx="84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感情的朗读下面的短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研究相关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0160" y="990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探究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280"/>
            <a:ext cx="883908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  灵   有  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小女孩因为长得又矮又瘦而被老师排除在合唱团之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躲在公园里伤心地流泪。她想：我为什么不能去唱歌呢？难道我真的唱得很难听吗？想着想着，小女孩就低声唱了起来，她唱了一支又一支，直到唱累了为止。“唱得真好！” 一个声音响了起来，“谢谢你，小姑娘，你让我渡过了一个愉快的下午。”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这时小姑娘惊呆了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话的老人说完就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第二天下午再去时，那老人还坐在原来的位置上，满脸慈祥地看着她微笑。小女孩又唱起来，老人聚精会神地听着，一副陶醉其中的表情。最后他大声喝彩，说：“谢谢你，小姑娘，你唱得太棒了！”说完又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过去了许多年后，小女孩成了大女孩，而且成了有名的歌星。但她忘不了公园里那个慈祥的老人。一个冬日的下午，她特意去公园找老人，令她失望的是那里只有一张小小的孤独的靠椅。后来才知道，老人早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是个聋子，都聋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了！”一个知情人告诉她。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姑娘惊呆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22096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章两次写到小姑娘惊呆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别说说 她“惊呆”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98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文中的老人与《唯一的听众》中的老人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68200" y="1030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华文彩云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29600" y="1143000"/>
            <a:ext cx="609480" cy="61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6922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99072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创新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81360"/>
            <a:ext cx="79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同学们，你在成长的过程中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定也得到过许多人的帮助和关怀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择一件写一写，表达你的感激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flipH="1">
            <a:off x="7391520" y="121932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990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Tahoma"/>
                <a:ea typeface="华文彩云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观察你身边最亲近人的一天，以《爱在我身边》为主题写一篇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67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25702" dir="1234696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今天，我们能强健而正直地生活着，我们应该对那些在我们生命历程中用关爱扶持我们的人，用智慧启迪我们的人，用美德陶冶我们的人，用真情沐浴我们的人，心存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733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多一份感激，就少一份冷漠；多一份感激，就少一份虚荣；多一份感激，就多一份奉献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存感激，是一种明朗的心境，一种人性的光辉，天空因此而变得湛蓝，空气因此而变得湿润，美好的事物因此而变得离我们很近很近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7621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ahoma"/>
                <a:ea typeface="华文彩云"/>
              </a:rPr>
              <a:t>心 存 感 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976320" cy="121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32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2428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495680" y="0"/>
              <a:ext cx="464832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0" y="3505320"/>
              <a:ext cx="44956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4495680" y="3505320"/>
              <a:ext cx="464832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4495680" cy="35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819520"/>
            <a:ext cx="2286000" cy="1950840"/>
          </a:xfrm>
          <a:custGeom>
            <a:avLst/>
            <a:gdLst>
              <a:gd name="textAreaLeft" fmla="*/ 537120 w 2286000"/>
              <a:gd name="textAreaRight" fmla="*/ 1747080 w 2286000"/>
              <a:gd name="textAreaTop" fmla="*/ 229320 h 1950840"/>
              <a:gd name="textAreaBottom" fmla="*/ 1223640 h 1950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2600" y="2770200"/>
            <a:ext cx="3814920" cy="260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4876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Arial"/>
                <a:ea typeface="华文彩云"/>
              </a:rPr>
              <a:t>巩固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153280" y="1143000"/>
            <a:ext cx="631800" cy="63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6920" y="2276640"/>
            <a:ext cx="80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你理解下列词的含义吗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请把它们连成一段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华文中宋"/>
              </a:rPr>
              <a:t>蹑手蹑脚、懊恼、羞愧、抱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22050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心理活动推动情节发展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正面和侧面相结合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文中的老人不计名利、默默奉献的精      神；培养学生有自信、有毅力的品质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4420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华文彩云"/>
                <a:ea typeface="华文彩云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64320" y="533520"/>
            <a:ext cx="1579680" cy="157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9648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自主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7432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09680"/>
            <a:ext cx="80773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段中， “我”刚看见老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时， “我”有怎样的心理活动？第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段中， “我”又有怎样的心理活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我”的前后变化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0120" y="1066680"/>
            <a:ext cx="1216080" cy="717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752480"/>
            <a:ext cx="86011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你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想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人的心理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天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久以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来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0160" y="1035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110016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1212840" cy="717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72800" y="1019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37360" y="2057400"/>
            <a:ext cx="54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认为这篇课文的中心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8098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中妹妹的角色是必须有的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怎样理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比一比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思考一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一直珍藏着一位老人美好的心灵”这句话中“美好的心灵”的含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1:09:45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7:06Z</dcterms:modified>
  <cp:revision>57</cp:revision>
  <dc:subject>六十铺中小学教育网http://www.lspjy.com</dc:subject>
  <dc:title>六十铺中小学教育网http://www.lspjy.com</dc:title>
</cp:coreProperties>
</file>