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3.jpeg" ContentType="image/jpeg"/>
  <Override PartName="/ppt/media/image26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1A5-6ABD-4C45-8F50-0D5A7096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37D-ABD9-4708-A278-35BAF93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A62-A2CA-4184-9F2A-4BD9FE65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DF3-F383-4CBD-AFB7-DAEA6671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41F-B5C5-4F0A-95CE-B3B1E755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14D-336E-4FEA-9276-537C7F38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F25B-59D5-4450-ADBB-A73D56A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083A-5490-4E5A-8A27-E17DACCB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FD69-A07E-4E32-867C-960545B2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25F9-13C1-473D-91F9-A160A6AB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DBD-6EEC-4341-8DDE-36278A8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6D6-DAFD-4B52-8F4B-BB93C3A0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67DD-9697-4C67-874A-41E2F2E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0F36-88D1-47CB-AA14-19E1286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9A48-E124-45B4-9276-76863C43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AACA-0A03-4F52-AB50-A0A542C4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6924-50FA-4F21-AFFB-1F1051DD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B7B-5D4A-4CD2-A0E2-C904A0CA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B30-6936-4DEF-A6B7-F279B4AC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A52-E2FC-49F0-9A1D-0C72575C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1B9-7630-4071-A0B3-DA7D897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3EC-F55E-4B32-A81E-B5EB5EB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77D-C902-4C57-9740-44BD182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7C1-4F3F-4BF2-8C7A-0EE89B9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44F4-7F0F-400F-8735-BB65B48C7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5472-867F-41E2-9617-4E2327E87A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33720" y="23623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中华少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44193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春天的故事”响彻大江南北，中华啊！展开了崭新的画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这句诗写到了什么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3623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啊！是七月的星火，南湖的航船，让东方雄狮从噩梦中奋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505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本句涉及到的是哪一次重要的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9880" y="1295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9051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57200" y="1219320"/>
            <a:ext cx="2286000" cy="1981080"/>
            <a:chOff x="457200" y="1219320"/>
            <a:chExt cx="2286000" cy="19810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803520" y="2613240"/>
              <a:ext cx="169704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33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中共一大</a:t>
              </a:r>
              <a:endParaRPr b="1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4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中华少年的誓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0477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仿宋"/>
                <a:ea typeface="华文仿宋"/>
              </a:rPr>
              <a:t>          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这是中华少年的铿锵誓言，表达了中华少年建设中华的坚强决心。这组排比句和前面四个“不”字句形成鲜明对比，再加上押“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an”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字韵，读起来琅琅上口，一气呵成，中华少年的爱国之心、自豪之情尽情流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219320"/>
            <a:ext cx="236232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6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7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5400000">
            <a:off x="7124040" y="33145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19320" y="1447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做旗舰去长风破浪，要做火箭去推动飞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像利剑把贫穷斩断，要用爱心把世界相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15238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8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整首诗表达了什么样的思想感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诗人以新时代中华少年的视角热情赞美了祖国，抒发了作为中华少年的由衷的自豪感，同时也表达了中华少年建设中华的坚强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3716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总结全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0120" y="5029200"/>
            <a:ext cx="1218960" cy="88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97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609480" y="4419720"/>
            <a:ext cx="3353040" cy="2057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甲：藏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乙：高山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丙：蒙古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丁：汉族的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181480" y="11430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表演朗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cover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中宋"/>
              </a:rPr>
              <a:t>课前准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预习课文，找一找，你可以从诗中找出哪些有所了解的景物、人物和事件？搜集相关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1219320"/>
            <a:ext cx="2895840" cy="5105160"/>
            <a:chOff x="380880" y="1219320"/>
            <a:chExt cx="2895840" cy="5105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0"/>
              <a:ext cx="243864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2210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80880" y="2666880"/>
              <a:ext cx="21337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72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带有生字、新词的句子请多读几遍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、划出你觉得最难读好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600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由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莽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立地顶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蹒跚学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强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阳关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艳阳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形容原野辽阔，无边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438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也作“顶天立地”，形容形象高大，气概雄伟豪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学走路时摇摆不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114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强壮勇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6483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比喻有光明前途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257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指明媚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86600" y="5410080"/>
            <a:ext cx="1790640" cy="10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90720" y="114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76920" y="4190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分角色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全班同学分成四个大组，分别承担“甲、乙、丙、丁”四个角色，一齐分角色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6002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划分结构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一）总起全诗：我们都是中华少年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二）写祖国锦绣河山哺育了中华少年，悠久的文化滋润了中华少年，特有的民族传统风俗滋养了中华少年。（第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三）回顾中华母亲的艰难历程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四）写中华少年的誓言。（第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五）总结全诗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7524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90512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这一节诗中出现了哪些事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原──雪莲”、“宝岛──乳燕”、“草原──雏鹰”、“黄土坡──山丹丹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透过这些词语，你分别可以联想到什么？把四组词语联系起来想一想，你又可以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少年的化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们都是中华少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5334120"/>
            <a:ext cx="7543800" cy="1009440"/>
            <a:chOff x="762120" y="5334120"/>
            <a:chExt cx="7543800" cy="10094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6553080" y="5334120"/>
              <a:ext cx="17528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0" y="5334120"/>
              <a:ext cx="1828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66880" y="5334120"/>
              <a:ext cx="17528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762120" y="53341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562720"/>
            <a:ext cx="35053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在这三节诗中，出现了哪些你熟悉的人和事物呢？请给大家简要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200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锦绣河山、悠久历史、民族传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219320"/>
            <a:ext cx="8153280" cy="1676160"/>
            <a:chOff x="457200" y="1219320"/>
            <a:chExt cx="8153280" cy="16761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43828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4419720" y="1219320"/>
              <a:ext cx="1981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6553080" y="1219320"/>
              <a:ext cx="205740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7524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905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民族艰难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876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细读这两句，展开想象，把你“看到”的场景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9548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黄河的纤夫拉不直问号般的身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长城的古砖挡不住洋炮的弹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7:14Z</dcterms:modified>
  <cp:revision>2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