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DA8-C3D0-431D-B03B-259488B7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879-ED72-4634-8E6C-8B914EC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DC6-643D-4D02-9F3C-54B6F2B1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390-0711-46C0-956D-533A7845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B8F1-09FD-4A89-8DEC-B8EFBAB9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BEE7-6EC2-452C-BE1D-4A55A149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6EC7-6219-49C7-82CB-E3C2C05D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F044-9CA9-4C86-99F3-C5784FFD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C795-AAA3-4333-87E7-4C3F52D7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D4E2-1C78-494C-815D-8BBBC26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3FE0-E652-4C7C-BB81-3798873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7F4-96A8-40DB-B627-DBAE9327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3167-09F3-4816-808A-DF2B916C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D02B-F71F-4373-A790-785DC4FC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F9D3-7B4E-4A3D-B4A3-2BE8DD58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54B0-D9A3-4461-A1FC-A392A7D8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CB5-6D05-4A84-AE97-9F665DC1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D54-A3E4-425E-9264-CCAAA735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24F-B3F7-405F-A07C-26A0D12A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18D-8179-4095-9F9B-92FB30B8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096-DF5A-411C-8B60-11B87E04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714-1AE7-4390-9E87-C71832C5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FC3-5612-42C6-B7B1-4AF49D81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0CC-D065-45EC-B81B-E2BFFE7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花1-2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花2-2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CA70-DA07-4380-BA14-EC2B23B14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花1-1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花2-1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8012-4C5A-4998-8806-71342BF0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991720" y="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13840" y="0"/>
            <a:ext cx="789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山    雨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来得突然——跟着一阵阵湿润的山风，跟着一缕缕轻盈的云雾，雨，悄悄地来了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6705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像一曲无字的歌谣，神奇地从四面八方飘然而起，逐渐清晰起来，响亮起来，由远而近，由远而近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143200" y="990720"/>
            <a:ext cx="60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  <a:ea typeface="楷体_GB2312"/>
              </a:rPr>
              <a:t>飘飘洒洒的雨丝是无数轻捷柔软的手指，弹奏出一首又一首优雅的小曲，每一个音符都带着幻想的色彩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0666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“……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所有的色彩都融化在水淋淋的嫩绿之中，绿得耀眼，绿得透明。这清新的绿色仿佛在雨雾中流动，流进我的眼睛，流进我的心胸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805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课件下载地址：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257800" y="7621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 “……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雨，悄悄地停了。风，也屏住了呼吸，山中一下变得非常幽静。远处，一只不知名的鸟儿开始啼啭起来，仿佛在倾吐着浴后的欢跃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990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多美的文章啊！为什么不用你灵巧的手绘制出一幅如诗如画的山雨图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14:12Z</dcterms:created>
  <dc:creator>lixiaolong</dc:creator>
  <dc:description/>
  <dc:language>en-US</dc:language>
  <cp:lastModifiedBy>微软用户</cp:lastModifiedBy>
  <dcterms:modified xsi:type="dcterms:W3CDTF">2010-06-21T13:49:30Z</dcterms:modified>
  <cp:revision>2</cp:revision>
  <dc:subject/>
  <dc:title>PowerPoint 演示文稿</dc:title>
</cp:coreProperties>
</file>