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2BC-DEB2-477B-8D6C-D4117E5D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079-1F40-4552-9441-87CC7274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044-3593-4B19-A1FE-4BB9AE5F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8AA-1B4C-43EF-A8E6-76F19A6B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A463-7423-4B8C-B430-D416F50D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1B15-F64C-416E-AA4E-E2BFA45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FE08-3D34-4219-AB43-44B49FB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AA3-ED80-47DB-B051-2F498EF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AD2A-712F-4F63-8553-D2B01AC3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D71E-CAB4-4C59-A6F3-4BDE63D8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98DD-75C1-43D7-8EDE-43423F0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9C1-512A-401F-B4D7-F4DEFA5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66A6-83B0-46BF-8F81-99269F2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E518-4E13-4399-9A0E-FD780EF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12D8-52EB-4297-841F-F0183EEB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0D64-E762-4B4F-B758-F5F17C23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B66F-3D47-4E3E-837A-E42C060F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693-5036-4742-9A12-CFEBE276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E89-3671-459B-92C4-0E792D09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F7D-A9FF-49C9-A1BF-EDA1CF96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F97-24F9-420A-870E-CD0F52C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119-3086-497C-BBD5-0AA3502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8F9-51D6-4235-B5A1-76459769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C0C-BBEC-42EC-99B0-F417A8FA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DFF-A65B-4EF7-9CB8-1324058BF60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2B5-BF98-4BD1-BD6B-757D51FD3E0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9810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8000" spc="-1" strike="noStrike">
                <a:solidFill>
                  <a:srgbClr val="007a77"/>
                </a:solidFill>
                <a:latin typeface="Arial"/>
              </a:rPr>
              <a:t>*  </a:t>
            </a:r>
            <a:r>
              <a:rPr b="1" lang="zh-CN" sz="8000" spc="-1" strike="noStrike">
                <a:solidFill>
                  <a:srgbClr val="007a77"/>
                </a:solidFill>
                <a:latin typeface="Arial"/>
              </a:rPr>
              <a:t>青山不老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7360" y="40384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2a0f"/>
                </a:solidFill>
                <a:latin typeface="Arial"/>
              </a:rPr>
              <a:t>马坡岭小学　　谭世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98560" y="1295280"/>
            <a:ext cx="702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作为一个山野老农，他就这样来实现自己的价值。他已经将自己的生命转化为另一种东西。他是真正与山川共存、与日月同辉了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7985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课堂小练笔：以“青山是不会老的”写一段自己的感想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209680"/>
            <a:ext cx="5486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79246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阅读提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课文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思考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这位老人创造了怎样的奇迹？这一奇迹是在什么样的情况下创造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联系课文想一想：作者为什么说“青山是不会老的”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0:03Z</dcterms:modified>
  <cp:revision>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