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163-09E8-4C95-A1A9-0C4C80F9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BB3-238A-4000-A6F6-4131CB0F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965-DED2-426A-968D-C2B9407F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4DD-BD8F-46B4-B58B-38D64841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87AC-B79C-4381-8E08-FC22814C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F605-712A-4DA6-AC7A-A52440C4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D074-257A-4FEF-96AA-1F676808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38DA-5917-4565-B031-03B15314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B243-A9FF-4FFC-BB49-F129D653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7EE0-7309-4C03-8766-82525D06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E9F2-B83B-4DCB-BE6B-5D8D0F90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E9A-C719-48F8-A874-235457FF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9320-56C0-4FC3-87D5-0A336021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8BA3-B5B7-4932-9943-69CED224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F716-360C-46FE-BD74-11125495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3567-E2E2-41C7-A24D-2199E67F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441A-5EA2-4B61-9CFC-C38C911C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B18-5567-401A-BA5B-5B228DA5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219-FC38-4702-A21C-BB304090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179-3E0B-48AB-8345-B4538640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B32-1D83-4053-AC22-D7BD1F3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A96-D3CC-46A2-A337-32A2432A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396-AEE8-4D18-B3A7-42747DDF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934-4332-4066-92E2-FBFEBAAB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FF11-2EF1-4AAE-B434-D92AAFBD7B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8C74-66E6-446B-B4CA-7B23828498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990720" y="2362320"/>
            <a:ext cx="4070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彩色的翅膀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16000" y="33336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51055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课文为什么要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彩色的翅膀”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课题有两层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一是以彩色的翅膀借代蝴蝶等小昆虫，强调了这些小昆虫在改造海岛环境、丰富战士生活方面所起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二是以彩色的翅膀象征战士丰富多彩、富于革命理想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086600" y="1371600"/>
            <a:ext cx="1676520" cy="3505320"/>
            <a:chOff x="7086600" y="1371600"/>
            <a:chExt cx="1676520" cy="350532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7086600" y="137160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7086600" y="32004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62120" y="1676520"/>
            <a:ext cx="3276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请你欣赏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3048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《军港之夜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43040" y="13716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86200" y="2819160"/>
            <a:ext cx="4648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摘录精彩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给宝石岛的战士写一封信，可以刊登在黑板报上，也可以投稿给编辑部，有条件的可以把信发布在网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碧空如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矮墩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水落石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精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819520" y="1447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词语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2362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青蓝色的天空像洗过一样明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895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形容矮而粗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3429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水落下去，石头就露出来。比喻真相大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机警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362320" y="2076480"/>
            <a:ext cx="45720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自读课文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,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理解大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342900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故事发生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课文主要讲述了哪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91960" y="189000"/>
            <a:ext cx="6782040" cy="1508040"/>
            <a:chOff x="291960" y="189000"/>
            <a:chExt cx="6782040" cy="1508040"/>
          </a:xfrm>
        </p:grpSpPr>
        <p:sp>
          <p:nvSpPr>
            <p:cNvPr id="95" name=""/>
            <p:cNvSpPr/>
            <p:nvPr/>
          </p:nvSpPr>
          <p:spPr>
            <a:xfrm>
              <a:off x="291960" y="1622520"/>
              <a:ext cx="6782040" cy="745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3" descr="我会读pic_227543"/>
            <p:cNvPicPr/>
            <p:nvPr/>
          </p:nvPicPr>
          <p:blipFill>
            <a:blip r:embed="rId2"/>
            <a:stretch/>
          </p:blipFill>
          <p:spPr>
            <a:xfrm>
              <a:off x="407880" y="189000"/>
              <a:ext cx="161928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2273400" y="785880"/>
              <a:ext cx="24480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读一读</a:t>
              </a:r>
              <a:endPara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143000"/>
            <a:ext cx="251460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故事发生在去宝石岛的路上和宝石岛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47920" y="1905120"/>
            <a:ext cx="30477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故事地点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29200" y="2666520"/>
            <a:ext cx="609480" cy="1143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648320"/>
            <a:ext cx="91440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91320" y="380988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71800" y="12193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主要事件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5800" y="2743200"/>
            <a:ext cx="3657600" cy="3429000"/>
            <a:chOff x="685800" y="2743200"/>
            <a:chExt cx="3657600" cy="3429000"/>
          </a:xfrm>
        </p:grpSpPr>
        <p:sp>
          <p:nvSpPr>
            <p:cNvPr id="106" name=""/>
            <p:cNvSpPr/>
            <p:nvPr/>
          </p:nvSpPr>
          <p:spPr>
            <a:xfrm>
              <a:off x="685800" y="27432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一）战士小高探亲回来带小昆虫上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838080" y="3886200"/>
              <a:ext cx="32767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4800600" y="2743200"/>
            <a:ext cx="3505320" cy="3457440"/>
            <a:chOff x="4800600" y="2743200"/>
            <a:chExt cx="3505320" cy="3457440"/>
          </a:xfrm>
        </p:grpSpPr>
        <p:sp>
          <p:nvSpPr>
            <p:cNvPr id="109" name=""/>
            <p:cNvSpPr/>
            <p:nvPr/>
          </p:nvSpPr>
          <p:spPr>
            <a:xfrm>
              <a:off x="4800600" y="27432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二）岛上战士开尝瓜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5029200" y="3886200"/>
              <a:ext cx="3276720" cy="23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12193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结识战士“小高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他把他的大提包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在一边，怀里紧紧地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抱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着一只纸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429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海面上波涛起伏，船身前后晃荡，小高担心纸箱被损坏，纸箱里装着的小昆虫不能上岛，心中着急，所以把纸箱抱在怀里。这句话有力地说明了小昆虫在小高心中的重要地位，也为下文揭开小高的秘密作了铺垫。句中“扔”与“抱”形成了鲜明的对比，突出了小高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13716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他笑嘻嘻地说：“我就不相信，这些小精灵会不爱我们祖国的海岛，会不愿在这里安居乐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297180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小高相信，经过战士们的努力，岛上环境条件差、生活艰苦的面貌一定会改变；他也相信，小昆虫一定会在海岛上安居乐业。这句话表面上是赞扬小昆虫，实际上是小高内心的表白：自己热爱祖国海岛，决心用自己的双手把海岛建设成美丽的家园。这句话点明了文章的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895480"/>
            <a:ext cx="1295280" cy="3048120"/>
            <a:chOff x="457200" y="2895480"/>
            <a:chExt cx="1295280" cy="30481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57200" y="2895480"/>
              <a:ext cx="1295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457200" y="4419720"/>
              <a:ext cx="12952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520" y="14475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海岛“尝瓜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8954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战士们都笑着，用两个指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捏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一小片来，细细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端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轻轻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闻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慢慢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不住发出啧啧的赞叹声。好像有一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甘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，流进了每个战士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981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3429000"/>
            <a:ext cx="67816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这里写出了战士们收获西瓜后喜悦、激动、自豪的心情，表现了他们对自己劳动成果的珍爱。战士的感情用“捏起”“端详”“闻”“咬”等一连串动词表现了出来。当中好像有一股甘泉，流进了他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752480"/>
            <a:ext cx="7086600" cy="1219320"/>
            <a:chOff x="914400" y="1752480"/>
            <a:chExt cx="7086600" cy="1219320"/>
          </a:xfrm>
        </p:grpSpPr>
        <p:sp>
          <p:nvSpPr>
            <p:cNvPr id="125" name=""/>
            <p:cNvSpPr/>
            <p:nvPr/>
          </p:nvSpPr>
          <p:spPr>
            <a:xfrm>
              <a:off x="2209680" y="1752480"/>
              <a:ext cx="5791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901"/>
                </a:spcBef>
                <a:buClr>
                  <a:srgbClr val="333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作者为什么把战士们吃瓜的情景写得那么详细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914400" y="1828800"/>
              <a:ext cx="1143000" cy="103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7:02Z</dcterms:modified>
  <cp:revision>2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