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77627-CDCE-4113-B33D-4502D3188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13A1-1253-42E6-A183-33D882401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BAAA8-A2D7-4193-B1E2-E7C0BF462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0ADD3-9C34-400F-92F3-4D31D6ED4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4028F-EE71-46C6-99E8-BA07EA2C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364F6-DEBA-4B5E-AF6B-B2EE97DD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6B30-B085-47C9-9FEC-EE246A89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4DEB7-32E3-4A8C-8911-CE676D29A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257BF-8FF3-4EDF-BA15-DFF677E8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A05CF-DB8B-4678-9C0F-A735A407E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5530-6997-40C8-B233-F634B7C62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81FF-081C-4F17-BA14-106A01DDF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66DF-3846-4CDD-BDCB-7CD94A04C6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55640" y="2205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海鸥　海鸥是人类最熟悉的海鸟，有</a:t>
            </a:r>
            <a:r>
              <a:rPr b="1" lang="zh-CN"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多种，其中一半以上在北半球繁殖。它对各种环境都有非凡的适应能力，根据海鸥羽毛、体形，一般把它分为两种子群。一种是黑头或是有头兜的鸥，体形较小，夏季头部颜色会有变化；一种是头部与身体颜色均呈白灰色的鸥，重</a:t>
            </a:r>
            <a:r>
              <a:rPr b="1" lang="zh-CN"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克至</a:t>
            </a:r>
            <a:r>
              <a:rPr b="1" lang="zh-CN" sz="3200" spc="-1" strike="noStrike">
                <a:solidFill>
                  <a:srgbClr val="000000"/>
                </a:solidFill>
                <a:latin typeface="楷体_GB2312"/>
                <a:ea typeface="楷体_GB2312"/>
              </a:rPr>
              <a:t>2 000</a:t>
            </a:r>
            <a:r>
              <a:rPr b="1" lang="zh-CN" sz="3200" spc="-1" strike="noStrike">
                <a:solidFill>
                  <a:srgbClr val="000000"/>
                </a:solidFill>
                <a:latin typeface="楷体_GB2312"/>
                <a:ea typeface="楷体_GB2312"/>
              </a:rPr>
              <a:t>克。</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
          <p:cNvSpPr txBox="1"/>
          <p:nvPr/>
        </p:nvSpPr>
        <p:spPr>
          <a:xfrm>
            <a:off x="2771640" y="404640"/>
            <a:ext cx="4105440" cy="172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21 </a:t>
            </a: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老人与海鸥</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是老人喂海鸥的一个细节描写。老人的动作是那么的娴熟，与海鸥之间的配合是那么默契、那么和谐！“扫”字把鸥群吃食的样子描绘得生动鲜活。海鸥有节奏地翻飞着雪白的翅膀，那场面，像一幅灵动的画，更像一首美妙的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③</a:t>
            </a:r>
            <a:r>
              <a:rPr b="1" lang="zh-CN" sz="4400" spc="-1" strike="noStrike">
                <a:solidFill>
                  <a:srgbClr val="000000"/>
                </a:solidFill>
                <a:latin typeface="Times New Roman"/>
                <a:ea typeface="楷体_GB2312"/>
              </a:rPr>
              <a:t>在海鸥的鸣叫声里，老人抑扬顿挫地唱着什么。侧耳细听，原来是亲昵得变了调的地方话──“独脚”“灰头”“红嘴”“老沙”“公主”……</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4360" y="6922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多么朴实的名字！然而透过这一个个朴实的名字，我们看到的是老人对海鸥的亲昵，对海鸥的爱。老人亲昵而自然地呼唤着一只只海鸥，就像在呼唤着自己的儿女。也许老人并不会唱歌，可一声声对海鸥的呼唤，不就是一首首动听的歌曲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④</a:t>
            </a:r>
            <a:r>
              <a:rPr b="1" lang="zh-CN" sz="4400" spc="-1" strike="noStrike">
                <a:solidFill>
                  <a:srgbClr val="000000"/>
                </a:solidFill>
                <a:latin typeface="Times New Roman"/>
                <a:ea typeface="楷体_GB2312"/>
              </a:rPr>
              <a:t>意想不到的事情发生了──一群海鸥突然飞来，围着老人的遗像翻飞盘旋，连声鸣叫，叫声和姿势与平时大不一样，像是发生了什么大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24000" y="260280"/>
            <a:ext cx="8316720" cy="6337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它们一定是发现十多年来天天与它们朝夕相处的老人今天与往常不一样了。它们用声声鸣叫呼唤老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⑤</a:t>
            </a:r>
            <a:r>
              <a:rPr b="1" lang="zh-CN" sz="4000" spc="-1" strike="noStrike">
                <a:solidFill>
                  <a:srgbClr val="000000"/>
                </a:solidFill>
                <a:latin typeface="Times New Roman"/>
                <a:ea typeface="楷体_GB2312"/>
              </a:rPr>
              <a:t>过了一会儿，海鸥纷纷落地，竟在老人遗像前后站成了两行。它们肃立不动，像是为老人守灵的白翼天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海鸥也像人一样，它们有着人一样的情感。急速翻飞后，海鸥们“纷纷落地”，“竟在老人遗像前后站成了两行”，它们是那么地严肃和安静，也许它们知道老人再也不会来了，于是它们默默地“肃立”，好像在为老人守灵。这样的场面，相信无论谁都会为之动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⑥</a:t>
            </a:r>
            <a:r>
              <a:rPr b="1" lang="zh-CN" sz="4800" spc="-1" strike="noStrike">
                <a:solidFill>
                  <a:srgbClr val="000000"/>
                </a:solidFill>
                <a:latin typeface="Times New Roman"/>
                <a:ea typeface="楷体_GB2312"/>
              </a:rPr>
              <a:t>它们大声鸣叫着，翅膀扑得那样近，我们好不容易才从这片飞动的白色漩涡中脱出身来。</a:t>
            </a:r>
            <a:endParaRPr b="0" lang="en-US" sz="4800" spc="-1" strike="noStrike">
              <a:solidFill>
                <a:srgbClr val="000000"/>
              </a:solidFill>
              <a:latin typeface="Times New Roman"/>
            </a:endParaRPr>
          </a:p>
        </p:txBody>
      </p:sp>
      <p:sp>
        <p:nvSpPr>
          <p:cNvPr id="72" name=""/>
          <p:cNvSpPr/>
          <p:nvPr/>
        </p:nvSpPr>
        <p:spPr>
          <a:xfrm>
            <a:off x="4572000" y="5487840"/>
            <a:ext cx="45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全套免费课件下载地址：</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六十铺中小学教育网</a:t>
            </a:r>
            <a:r>
              <a:rPr b="1" lang="zh-CN" sz="2400" spc="-1" strike="noStrike">
                <a:solidFill>
                  <a:srgbClr val="ffff00"/>
                </a:solidFill>
                <a:latin typeface="Times New Roman"/>
              </a:rPr>
              <a:t>http://www.lspjy.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鸥老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178920" y="980640"/>
            <a:ext cx="8458200" cy="58770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四元五角一斤的饼干，老人毫不吝惜买给海鸥，他知道那是海鸥最喜欢的美食；他还经常买来鸡蛋为海鸥制作“鸡蛋饼干”；而他自己，唯一的奢侈品是两毛钱一包的金沙江香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27280" y="-1295280"/>
            <a:ext cx="12598560" cy="944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从哪些地方你能体会到老人与海鸥之间的深厚感情，勾画出相关的语句，进行批注。 </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ffcc"/>
            </a:gs>
            <a:gs pos="100000">
              <a:srgbClr val="ff00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89000"/>
            <a:ext cx="3203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词句解析</a:t>
            </a:r>
            <a:endParaRPr b="0" lang="en-US" sz="4000" spc="-1" strike="noStrike">
              <a:solidFill>
                <a:srgbClr val="000000"/>
              </a:solidFill>
              <a:latin typeface="Times New Roman"/>
            </a:endParaRPr>
          </a:p>
        </p:txBody>
      </p:sp>
      <p:sp>
        <p:nvSpPr>
          <p:cNvPr id="50" name="PlaceHolder 2"/>
          <p:cNvSpPr>
            <a:spLocks noGrp="1"/>
          </p:cNvSpPr>
          <p:nvPr>
            <p:ph/>
          </p:nvPr>
        </p:nvSpPr>
        <p:spPr>
          <a:xfrm>
            <a:off x="179280" y="907920"/>
            <a:ext cx="896472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①</a:t>
            </a:r>
            <a:r>
              <a:rPr b="1" lang="zh-CN" sz="4400" spc="-1" strike="noStrike">
                <a:solidFill>
                  <a:srgbClr val="000000"/>
                </a:solidFill>
                <a:latin typeface="Times New Roman"/>
                <a:ea typeface="楷体_GB2312"/>
              </a:rPr>
              <a:t>他背已经驼了，穿一身褪色的过时布衣，背一个褪色的蓝布包，连装鸟食的大塑料袋也用得褪了色。朋友告诉我，这位老人每天步行二十余里，从城郊赶到翠湖，只为了给海鸥送餐，跟海鸥相伴。</a:t>
            </a:r>
            <a:endParaRPr b="0" lang="en-US" sz="4400" spc="-1" strike="noStrike">
              <a:solidFill>
                <a:srgbClr val="000000"/>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
          <p:cNvSpPr/>
          <p:nvPr/>
        </p:nvSpPr>
        <p:spPr>
          <a:xfrm>
            <a:off x="1187280" y="4005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4360" y="1125000"/>
            <a:ext cx="7772400" cy="4751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十分简朴的老人，可就是这样一个勤俭的老人，却用自己不多的退休工资给海鸥买食物，天天步行二十余里去喂海鸥。是什么给了老人这么大的动力？无疑，是老人对海鸥那种无私的爱。这里用不多的文字，向读者呈现了一个爱海鸥的老人形象。</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00ff"/>
            </a:gs>
            <a:gs pos="100000">
              <a:srgbClr val="ff99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②</a:t>
            </a:r>
            <a:r>
              <a:rPr b="1" lang="zh-CN" sz="4000" spc="-1" strike="noStrike">
                <a:solidFill>
                  <a:srgbClr val="000000"/>
                </a:solidFill>
                <a:latin typeface="Times New Roman"/>
                <a:ea typeface="楷体_GB2312"/>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3:14Z</dcterms:modified>
  <cp:revision>48</cp:revision>
  <dc:subject>六十铺中小学教育网http://www.lspjy.com</dc:subject>
  <dc:title>六十铺中小学教育网http://www.lspjy.com</dc:title>
</cp:coreProperties>
</file>