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chimes.wav" ContentType="audio/x-wav"/>
  <Override PartName="/ppt/media/image13.png" ContentType="image/png"/>
  <Override PartName="/ppt/media/image12.jpeg" ContentType="image/jpeg"/>
  <Override PartName="/ppt/media/image6.png" ContentType="image/png"/>
  <Override PartName="/ppt/media/image7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projctor.wav" ContentType="audio/x-wav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8BB6-00C2-4B48-B0AC-D4B396D2F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65FF-AC7D-47A6-BBD9-3C7D75A6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2F57-1BE8-4A98-A3AD-54F1D2985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8D8B-B12E-49DA-8486-382E07509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DC3B-F2DB-476D-B571-9391A0369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4CBA-08FE-4B62-8B23-AA1F397A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4B9F-96E2-4262-B63B-B2CCBF8D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3B76A-9FCE-46D1-8798-B50C343A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FEB1-0BEB-42E9-A700-785A2418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45A0-03A9-4928-B4FA-8EEBFBEC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C5CB-9E9D-4BE4-915C-6D2B28A2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9456-6070-4B63-A84C-D650EB2C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082D-7E7E-43CA-900B-95F53708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4249-7125-4556-AA1F-302BCFE7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DAB6-14BA-4D18-AE24-41AA9CED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F948-8CFC-4216-9FC9-67209DCF3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6B88-D56C-44AA-8AD9-5A1847E24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ADA35-53B8-4A6D-AA25-BDC0B685B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50D5B-F136-49C9-8728-2FA46CC0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4E02F-4213-4A85-962A-73186A48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40518-9414-4F56-BCA9-C17FAB86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04835-8478-4F16-A819-7412347B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C51A-728E-434B-95C1-DE378C91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31984-209E-4631-9D74-9E5F60B0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6B3EF-7F70-454B-B319-91DA7FE2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DE5A1-6604-4425-BF67-D0BFCFEB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C5BB1-A9B3-4FA4-8543-C9B9678D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0C422-4158-467B-9C1E-DBE9D21A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70FEB-B557-40D1-9A4D-044240C27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36F07-9757-4F68-9F1F-1850AAC40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CB7D-1C77-46A8-899C-478CE7BF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A423-E771-4535-99D3-7DB78C15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2DB1-D376-41E8-8C0C-784D1119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90C3-88C6-4A53-8812-82862C78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18A5-536C-4C43-A982-6AF14DC7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B97C-3847-4BB3-AD6D-90148E99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5147"/>
            </a:gs>
            <a:gs pos="100000">
              <a:srgbClr val="ddebc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277F-0845-475A-B0D0-061B1A9EF9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19BE-5FC3-42FA-9C00-6AE4BEC014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6FE9-50DF-418E-9054-910F07F877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1547640" y="1268280"/>
            <a:ext cx="5838840" cy="197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大瀑布的葬礼</a:t>
            </a:r>
            <a:endParaRPr b="1" lang="en-US" sz="8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80880" y="9144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228600"/>
            <a:ext cx="403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它在群山之中</a:t>
            </a:r>
            <a:r>
              <a:rPr b="1" lang="zh-CN" sz="5400" spc="-1" strike="noStrike" u="sng">
                <a:solidFill>
                  <a:srgbClr val="660033"/>
                </a:solidFill>
                <a:uFillTx/>
                <a:latin typeface="Times New Roman"/>
                <a:ea typeface="黑体"/>
              </a:rPr>
              <a:t>无奈地垂下了头，像生命垂危的老人一般，形容枯槁，奄奄一息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3" action="ppaction://hlinksldjump"/>
          </p:cNvPr>
          <p:cNvSpPr/>
          <p:nvPr/>
        </p:nvSpPr>
        <p:spPr>
          <a:xfrm>
            <a:off x="7467480" y="609588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33520" y="2438280"/>
            <a:ext cx="80769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这一闻名世界的大瀑布是怎样被葬送的</a:t>
            </a: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?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06200" y="189000"/>
            <a:ext cx="2489400" cy="2160360"/>
            <a:chOff x="106200" y="189000"/>
            <a:chExt cx="2489400" cy="2160360"/>
          </a:xfrm>
        </p:grpSpPr>
        <p:pic>
          <p:nvPicPr>
            <p:cNvPr id="145" name="" descr=""/>
            <p:cNvPicPr/>
            <p:nvPr/>
          </p:nvPicPr>
          <p:blipFill>
            <a:blip r:embed="rId2"/>
            <a:stretch/>
          </p:blipFill>
          <p:spPr>
            <a:xfrm>
              <a:off x="106200" y="189000"/>
              <a:ext cx="1879920" cy="21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722160" y="828720"/>
              <a:ext cx="187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华文隶书"/>
                </a:rPr>
                <a:t>小组学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09480" y="804960"/>
            <a:ext cx="8001000" cy="44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主要原因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800" spc="-1" strike="noStrike">
                <a:solidFill>
                  <a:srgbClr val="006600"/>
                </a:solidFill>
                <a:latin typeface="隶书"/>
                <a:ea typeface="隶书"/>
              </a:rPr>
              <a:t>1</a:t>
            </a:r>
            <a:r>
              <a:rPr b="1" lang="zh-CN" sz="4800" spc="-1" strike="noStrike">
                <a:solidFill>
                  <a:srgbClr val="006600"/>
                </a:solidFill>
                <a:latin typeface="隶书"/>
                <a:ea typeface="隶书"/>
              </a:rPr>
              <a:t>、建水电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隶书"/>
                <a:ea typeface="隶书"/>
              </a:rPr>
              <a:t>　</a:t>
            </a:r>
            <a:r>
              <a:rPr b="1" lang="zh-CN" sz="4800" spc="-1" strike="noStrike">
                <a:solidFill>
                  <a:srgbClr val="006600"/>
                </a:solidFill>
                <a:latin typeface="隶书"/>
                <a:ea typeface="隶书"/>
              </a:rPr>
              <a:t>2</a:t>
            </a:r>
            <a:r>
              <a:rPr b="1" lang="zh-CN" sz="4800" spc="-1" strike="noStrike">
                <a:solidFill>
                  <a:srgbClr val="006600"/>
                </a:solidFill>
                <a:latin typeface="隶书"/>
                <a:ea typeface="隶书"/>
              </a:rPr>
              <a:t>、水资源浪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隶书"/>
                <a:ea typeface="隶书"/>
              </a:rPr>
              <a:t>　</a:t>
            </a:r>
            <a:r>
              <a:rPr b="1" lang="zh-CN" sz="4800" spc="-1" strike="noStrike">
                <a:solidFill>
                  <a:srgbClr val="006600"/>
                </a:solidFill>
                <a:latin typeface="隶书"/>
                <a:ea typeface="隶书"/>
              </a:rPr>
              <a:t>3</a:t>
            </a:r>
            <a:r>
              <a:rPr b="1" lang="zh-CN" sz="4800" spc="-1" strike="noStrike">
                <a:solidFill>
                  <a:srgbClr val="006600"/>
                </a:solidFill>
                <a:latin typeface="隶书"/>
                <a:ea typeface="隶书"/>
              </a:rPr>
              <a:t>、破坏森林、乱砍滥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11280" y="2133720"/>
            <a:ext cx="763272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几年过去，塞特凯达斯大瀑布逐渐枯竭，即使在汛期，也见不到昔日雄奇的气势。它在群山之中无奈地垂下了头，像生命垂危的老人，形容枯槁，奄奄一息。游人们常常乘兴而来，失望而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200240" y="990720"/>
            <a:ext cx="6972120" cy="13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彩云"/>
              </a:rPr>
              <a:t>昔日     雄伟壮观 </a:t>
            </a:r>
            <a:endParaRPr b="1" lang="en-US" sz="6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200240" y="2971800"/>
            <a:ext cx="682920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隶书"/>
              </a:rPr>
              <a:t>如今     逐渐枯竭 </a:t>
            </a:r>
            <a:endParaRPr b="1" lang="en-US" sz="6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隶书"/>
              <a:ea typeface="华文隶书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762120" y="4800600"/>
            <a:ext cx="78865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保护生态环境  保护地球 </a:t>
            </a:r>
            <a:endParaRPr b="1" lang="en-US" sz="5400" spc="1" strike="noStrike">
              <a:ln w="1908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1" strike="noStrike">
              <a:ln w="1908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55640" y="836640"/>
            <a:ext cx="770400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思考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塞特凯达斯大瀑布曾经是怎样一条瀑布？现在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这样气魄雄伟的瀑布为什么会被葬送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巴西总统为什么要亲自主持葬礼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4.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为大瀑布举行葬礼有什么重要意义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14400" y="156996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r>
              <a:rPr b="1" lang="zh-CN" sz="7200" spc="-1" strike="noStrike">
                <a:solidFill>
                  <a:srgbClr val="ff0066"/>
                </a:solidFill>
                <a:latin typeface="Times New Roman"/>
                <a:ea typeface="隶书"/>
              </a:rPr>
              <a:t>让塞特凯达斯大瀑布的悲剧不再重演！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87640" y="52293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全套免费课件下载地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六十铺中小学教育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5147"/>
            </a:gs>
            <a:gs pos="100000">
              <a:srgbClr val="ddebc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04920" y="533520"/>
            <a:ext cx="86868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黑体"/>
                <a:ea typeface="黑体"/>
              </a:rPr>
              <a:t>   </a:t>
            </a:r>
            <a:r>
              <a:rPr b="1" lang="zh-CN" sz="6600" spc="-1" strike="noStrike">
                <a:solidFill>
                  <a:srgbClr val="ff3300"/>
                </a:solidFill>
                <a:latin typeface="黑体"/>
                <a:ea typeface="黑体"/>
              </a:rPr>
              <a:t>塞特凯达斯大瀑布曾经是世界上流量最大的瀑布，汹涌的河水紧贴悬崖咆哮而下，滔滔不绝，一泻千里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5147"/>
            </a:gs>
            <a:gs pos="100000">
              <a:srgbClr val="ddebc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04920" y="533520"/>
            <a:ext cx="8686800" cy="46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黑体"/>
                <a:ea typeface="黑体"/>
              </a:rPr>
              <a:t>   </a:t>
            </a:r>
            <a:r>
              <a:rPr b="1" lang="zh-CN" sz="6600" spc="-1" strike="noStrike">
                <a:solidFill>
                  <a:srgbClr val="ff3300"/>
                </a:solidFill>
                <a:latin typeface="黑体"/>
                <a:ea typeface="黑体"/>
              </a:rPr>
              <a:t>塞特凯达斯大瀑布曾经是世界上流量最大的瀑布，汹涌的河水紧贴悬崖</a:t>
            </a:r>
            <a:r>
              <a:rPr b="1" lang="zh-CN" sz="6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咆哮而下，滔滔不绝，一泻千里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5147"/>
            </a:gs>
            <a:gs pos="100000">
              <a:srgbClr val="ddebc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04920" y="762120"/>
            <a:ext cx="8610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9900"/>
                </a:solidFill>
                <a:latin typeface="黑体"/>
                <a:ea typeface="黑体"/>
              </a:rPr>
              <a:t>   </a:t>
            </a:r>
            <a:r>
              <a:rPr b="1" lang="zh-CN" sz="5400" spc="-1" strike="noStrike">
                <a:solidFill>
                  <a:srgbClr val="cc6600"/>
                </a:solidFill>
                <a:latin typeface="黑体"/>
                <a:ea typeface="黑体"/>
              </a:rPr>
              <a:t>每秒钟有</a:t>
            </a:r>
            <a:r>
              <a:rPr b="1" lang="zh-CN" sz="5400" spc="-1" strike="noStrike">
                <a:solidFill>
                  <a:srgbClr val="cc6600"/>
                </a:solidFill>
                <a:latin typeface="黑体"/>
                <a:ea typeface="黑体"/>
              </a:rPr>
              <a:t>1</a:t>
            </a:r>
            <a:r>
              <a:rPr b="1" lang="zh-CN" sz="5400" spc="-1" strike="noStrike">
                <a:solidFill>
                  <a:srgbClr val="cc6600"/>
                </a:solidFill>
                <a:latin typeface="黑体"/>
                <a:ea typeface="黑体"/>
              </a:rPr>
              <a:t>万立方米的水从几十米的高处飞流直下，落地撞开万朵莲花，溅起的水雾飘飘洒洒，水声震耳欲聋。据说在</a:t>
            </a:r>
            <a:r>
              <a:rPr b="1" lang="zh-CN" sz="5400" spc="-1" strike="noStrike">
                <a:solidFill>
                  <a:srgbClr val="cc6600"/>
                </a:solidFill>
                <a:latin typeface="黑体"/>
                <a:ea typeface="黑体"/>
              </a:rPr>
              <a:t>30</a:t>
            </a:r>
            <a:r>
              <a:rPr b="1" lang="zh-CN" sz="5400" spc="-1" strike="noStrike">
                <a:solidFill>
                  <a:srgbClr val="cc6600"/>
                </a:solidFill>
                <a:latin typeface="黑体"/>
                <a:ea typeface="黑体"/>
              </a:rPr>
              <a:t>公里外</a:t>
            </a:r>
            <a:r>
              <a:rPr b="1" lang="zh-CN" sz="5400" spc="-1" strike="noStrike">
                <a:solidFill>
                  <a:srgbClr val="cc6600"/>
                </a:solidFill>
                <a:latin typeface="黑体"/>
                <a:ea typeface="黑体"/>
              </a:rPr>
              <a:t>,</a:t>
            </a:r>
            <a:r>
              <a:rPr b="1" lang="zh-CN" sz="5400" spc="-1" strike="noStrike">
                <a:solidFill>
                  <a:srgbClr val="cc6600"/>
                </a:solidFill>
                <a:latin typeface="黑体"/>
                <a:ea typeface="黑体"/>
              </a:rPr>
              <a:t>瀑布的巨响还清晰可闻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5147"/>
            </a:gs>
            <a:gs pos="100000">
              <a:srgbClr val="ddebc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04920" y="762120"/>
            <a:ext cx="861048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9900"/>
                </a:solidFill>
                <a:latin typeface="黑体"/>
                <a:ea typeface="黑体"/>
              </a:rPr>
              <a:t>   </a:t>
            </a:r>
            <a:r>
              <a:rPr b="1" lang="zh-CN" sz="5400" spc="-1" strike="noStrike">
                <a:solidFill>
                  <a:srgbClr val="cc6600"/>
                </a:solidFill>
                <a:latin typeface="黑体"/>
                <a:ea typeface="黑体"/>
              </a:rPr>
              <a:t>每秒钟有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1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万立方米</a:t>
            </a:r>
            <a:r>
              <a:rPr b="1" lang="zh-CN" sz="5400" spc="-1" strike="noStrike">
                <a:solidFill>
                  <a:srgbClr val="cc6600"/>
                </a:solidFill>
                <a:latin typeface="黑体"/>
                <a:ea typeface="黑体"/>
              </a:rPr>
              <a:t>的水从几十米的高处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飞流直下</a:t>
            </a:r>
            <a:r>
              <a:rPr b="1" lang="zh-CN" sz="5400" spc="-1" strike="noStrike">
                <a:solidFill>
                  <a:srgbClr val="cc6600"/>
                </a:solidFill>
                <a:latin typeface="黑体"/>
                <a:ea typeface="黑体"/>
              </a:rPr>
              <a:t>，落地撞开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万朵莲花</a:t>
            </a:r>
            <a:r>
              <a:rPr b="1" lang="zh-CN" sz="5400" spc="-1" strike="noStrike">
                <a:solidFill>
                  <a:srgbClr val="cc6600"/>
                </a:solidFill>
                <a:latin typeface="黑体"/>
                <a:ea typeface="黑体"/>
              </a:rPr>
              <a:t>，溅起的水雾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飘飘洒洒</a:t>
            </a:r>
            <a:r>
              <a:rPr b="1" lang="zh-CN" sz="5400" spc="-1" strike="noStrike">
                <a:solidFill>
                  <a:srgbClr val="cc6600"/>
                </a:solidFill>
                <a:latin typeface="黑体"/>
                <a:ea typeface="黑体"/>
              </a:rPr>
              <a:t>，水声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震耳欲聋</a:t>
            </a:r>
            <a:r>
              <a:rPr b="1" lang="zh-CN" sz="5400" spc="-1" strike="noStrike">
                <a:solidFill>
                  <a:srgbClr val="cc6600"/>
                </a:solidFill>
                <a:latin typeface="黑体"/>
                <a:ea typeface="黑体"/>
              </a:rPr>
              <a:t>。据说在</a:t>
            </a:r>
            <a:r>
              <a:rPr b="1" lang="zh-CN" sz="5400" spc="-1" strike="noStrike">
                <a:solidFill>
                  <a:srgbClr val="cc6600"/>
                </a:solidFill>
                <a:latin typeface="黑体"/>
                <a:ea typeface="黑体"/>
              </a:rPr>
              <a:t>30</a:t>
            </a:r>
            <a:r>
              <a:rPr b="1" lang="zh-CN" sz="5400" spc="-1" strike="noStrike">
                <a:solidFill>
                  <a:srgbClr val="cc6600"/>
                </a:solidFill>
                <a:latin typeface="黑体"/>
                <a:ea typeface="黑体"/>
              </a:rPr>
              <a:t>公里外</a:t>
            </a:r>
            <a:r>
              <a:rPr b="1" lang="zh-CN" sz="5400" spc="-1" strike="noStrike">
                <a:solidFill>
                  <a:srgbClr val="cc6600"/>
                </a:solidFill>
                <a:latin typeface="黑体"/>
                <a:ea typeface="黑体"/>
              </a:rPr>
              <a:t>,</a:t>
            </a:r>
            <a:r>
              <a:rPr b="1" lang="zh-CN" sz="5400" spc="-1" strike="noStrike">
                <a:solidFill>
                  <a:srgbClr val="cc6600"/>
                </a:solidFill>
                <a:latin typeface="黑体"/>
                <a:ea typeface="黑体"/>
              </a:rPr>
              <a:t>瀑布的巨响还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清晰可闻</a:t>
            </a:r>
            <a:r>
              <a:rPr b="1" lang="zh-CN" sz="5400" spc="-1" strike="noStrike">
                <a:solidFill>
                  <a:srgbClr val="cc6600"/>
                </a:solidFill>
                <a:latin typeface="黑体"/>
                <a:ea typeface="黑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57200" y="533520"/>
            <a:ext cx="82296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水以立方米为计量单位，即长、宽、高皆为一米。相当于一千公升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一立方米的水净重一吨或一千公斤。如果把家里的浴缸灌满水五次，所耗用的水量便约为一立方米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45720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长期以来，塞特凯达斯瀑布一直是巴西和巴拉圭人民的骄傲。世界各地的观光者纷至沓来，在这从天而降的巨大水帘面前，置身于细细的水雾中，感受着这世外桃源的清新空气，游客们常常为此陶醉不已，流连往返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80880" y="9144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35640" y="549360"/>
            <a:ext cx="292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它在群山之中无奈地垂下了头，像生命垂危的老人一般，形容枯槁，奄奄一息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14:18:57Z</dcterms:created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09:58:31Z</dcterms:modified>
  <cp:revision>43</cp:revision>
  <dc:subject>六十铺中小学教育网http://www.lspjy.com</dc:subject>
  <dc:title>六十铺中小学教育网http://www.lspjy.com</dc:title>
</cp:coreProperties>
</file>