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gif" ContentType="image/gif"/>
  <Override PartName="/ppt/media/image12.jpeg" ContentType="image/jpeg"/>
  <Override PartName="/ppt/media/image9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png" ContentType="image/png"/>
  <Override PartName="/ppt/media/image14.gif" ContentType="image/gif"/>
  <Override PartName="/ppt/media/image7.jpeg" ContentType="image/jpeg"/>
  <Override PartName="/ppt/media/image15.gif" ContentType="image/gif"/>
  <Override PartName="/ppt/media/image18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983C-BBF6-4359-8244-8B211001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8B5-17EF-4E3B-9A43-2C45A7CD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8A9-4877-429F-A4AB-5F4C8CEB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220D-837A-4721-A7B8-AABF964C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852B-0D11-4B41-8A5D-699731E3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529-07D7-4308-A474-C2FF1F69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F16D-4EE6-4886-A4E3-64B39CC9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816-2ADA-4AA2-8A34-DC082C77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631-AAB3-4A50-94B0-4F74D106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7B66-BE9E-4E05-B1B6-1680EDAD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053-6F35-4C8D-ACE9-266E1A62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760-2736-418A-A5F8-8F85CDE4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0093-A138-4ECC-90FE-8F1507891D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05120" y="1600200"/>
            <a:ext cx="5486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用心灵去倾听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477120" y="1143000"/>
            <a:ext cx="2286000" cy="3657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4723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④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但是我非常想认识苏珊，认识这个从未谋面却如同我第二个母亲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60962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用“如同我第二个母亲”来形容苏珊，看得出“我”对苏珊的爱。苏珊不是“我”的母亲，我们也从没见过面，是电话线把两个人紧紧地连在一起。苏珊就像母亲那样，耐心倾听“我”的心声，困难时给予“我”帮助，痛苦时给予“我”安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中宋"/>
              </a:rPr>
              <a:t>知识延伸——前后照应的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7848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课文多处运用了前后照应的手法，使文章层次分明。你可以找出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、第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14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自然段“苏珊？你能告诉我‘修理’这个词怎么拼写吗”与第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自然段“‘修理’这个词怎么拼写”照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、第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自然段“她沉默了一会儿，说：‘我希望你的手指已经好了’”与第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自然段“我对小精灵说：‘我一个人在家，我的手指被锤子砸伤了……’”照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、最后一段“汤米，我要到另一个世界去歌唱”与第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自然段“你知道吗，这只可爱的小鸟，它要到另一个世界去歌唱”照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14240" y="2133720"/>
            <a:ext cx="3048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课文主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3505320"/>
            <a:ext cx="7467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这是一个真实的故事，记叙了“我”与问讯处工作人员苏珊交往的过程，赞美了苏珊用心灵倾听孩子的心声、用爱心帮助孩子的善良品质，表达了“我”对苏珊的深切怀念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 txBox="1"/>
            <p:nvPr/>
          </p:nvSpPr>
          <p:spPr>
            <a:xfrm>
              <a:off x="2775600" y="4732560"/>
              <a:ext cx="3183840" cy="135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1" strike="noStrike">
                  <a:ln w="12600">
                    <a:solidFill>
                      <a:srgbClr val="ffcc00"/>
                    </a:solidFill>
                    <a:miter/>
                  </a:ln>
                  <a:solidFill>
                    <a:srgbClr val="ff00ff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华文仿宋"/>
                </a:rPr>
                <a:t>再见</a:t>
              </a:r>
              <a:endParaRPr b="1" i="1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仿宋"/>
                <a:ea typeface="华文仿宋"/>
              </a:endParaRPr>
            </a:p>
          </p:txBody>
        </p:sp>
      </p:grp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572000" y="507960"/>
            <a:ext cx="4267080" cy="281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019920" y="3403440"/>
            <a:ext cx="281916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304920" y="3403440"/>
            <a:ext cx="5562360" cy="2514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33520" y="4343400"/>
            <a:ext cx="5181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生活中的好帮手——问讯处</a:t>
            </a:r>
            <a:endParaRPr b="0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304920" y="507960"/>
            <a:ext cx="4119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1523520"/>
            <a:ext cx="487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预习课文，积累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342864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着迷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26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对人或事物产生难以舍弃的爱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352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密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4290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秘密的通信用语。为了保密，通常用数字、字母、单词等代替真实的通信内容，也叫暗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5029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谋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51055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彼此见面，相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62920" y="4648320"/>
            <a:ext cx="130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中宋"/>
              </a:rPr>
              <a:t>自由朗读课文，了解课文内容</a:t>
            </a:r>
            <a:br>
              <a:rPr sz="3600"/>
            </a:br>
            <a:br>
              <a:rPr sz="36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说一说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苏珊给了小时候的“我”哪些帮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54100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当“我”的手指被砸伤时，她用悦耳的声音帮助“我”消除恐惧，指导“我”实施自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当“我”因心爱的金丝雀突然死去而伤心时，苏珊宽慰“我”，消除了“我”对死亡的恐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还有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238880" y="3352680"/>
            <a:ext cx="1609920" cy="2524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04920" y="10666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中宋"/>
              </a:rPr>
              <a:t>再读课文，边读边想：</a:t>
            </a:r>
            <a:br>
              <a:rPr sz="48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课文中的哪些内容让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感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，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感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你的语句划出来，与大家交流。（特别注意那些描写人物言行、心理的语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 txBox="1"/>
            <p:nvPr/>
          </p:nvSpPr>
          <p:spPr>
            <a:xfrm>
              <a:off x="1469520" y="5312160"/>
              <a:ext cx="6531120" cy="86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分析例句，体会“感动”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  <a:ea typeface="华文中宋"/>
              </a:endParaRPr>
            </a:p>
          </p:txBody>
        </p:sp>
      </p:grp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1447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我找到了听我说话的人，不由得放声大哭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2819160"/>
            <a:ext cx="6477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”的手指被锤子砸伤了，可是“家里没有人，哭也不会有谁听见”。“我”只好把希望寄托在那个叫“问讯处”的小精灵身上。听到苏珊温柔的嗓音，“我”孤独的心灵一下子得到了抚慰，我终于放声大哭。这既是伤痛带来的痛苦的哭，更是在孤独中找到了希望的幸福的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1066680" cy="1218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0880" y="4191120"/>
            <a:ext cx="12956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1447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②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小精灵总是耐心地回答我的问题，一遍遍地向我解释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69343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苏珊面对“我”一个个简单而幼稚的问题，就像一位母亲那样耐心为我解释。在一次次心与心的交流中，两个人的心走到了一起，结成了母子般的情谊。这句话形象地写出了苏珊的爱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1467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480" y="1371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③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你知道吗，这只可爱的小鸟，它要到另一个世界去歌唱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9548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心爱的金丝雀突然死了，“我”不仅痛苦，同时对死亡也充满了恐惧。苏珊说小鸟到另外一个世界去唱歌，这是多么美好的事啊！听了这样的话，笼罩在孩子心头的阴影立刻消散了，快乐又回到了孩子的身边。苏珊的善良、乐观由此可见一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9:57:38Z</dcterms:modified>
  <cp:revision>358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