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001-2953-425B-9CAA-8E71D3FE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9340-AACE-4341-9552-2B03DED7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3541-2C02-4D8B-B18E-AC4B1278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12AE-EA5E-42E5-9949-CBDEE9BA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BDBD-191F-4BC8-A2AD-3BE403DD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AD88-AA9F-4D26-8FA7-81CF16D5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21BE-9789-411B-AB4C-ADB04C51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C4EA-33B8-4A56-90DE-A9721AE3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2318-3B88-4FB7-BF85-C379E30C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4F8D-CA90-4A3F-809A-642D2683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5A11-2640-4E13-9B2E-918FE6EA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E653-FC50-4A3F-A100-85865BD2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7193-46DC-47BD-B4F1-1E418B47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21EC-8284-4D88-8569-6EAC771F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5201-8642-4568-B6EA-917AA6A6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484F-B667-41AF-8F25-42C50FA0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A675-7032-49CD-81CA-4518B11C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B89-8E45-4502-BE5A-9F3F9441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6E4-215F-4DA8-9B53-8F6CA84F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4C1-15A8-4810-A65D-C49C2352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C8F-49C6-474C-BD3A-1AB3D7AA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B646-B8A6-47D8-B1AB-11451FC0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03BB-BD5E-495C-B1E7-746964BC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E75-80B2-478F-9D32-D16F5B86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B98A-2406-4D9E-8C27-C426877C3A1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27E1-8060-4F1D-A487-70B23AD93E0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2637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岳林之秋”语文教学活动实践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708280"/>
            <a:ext cx="66978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奉化岳林中心小学         沈   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伯牙作为楚国著名的宫廷乐师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名满天下，虽然听者众多，但听到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都是那些毫无价值的、没有意义的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空虚的、肤浅的赞美，他始终觉得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人真正听懂他的琴声，所以独自一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来到山间排遣内心的孤独和寂寞，他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万万没想到，此时，此地，此人，钟子期，一个山野村夫却能听得懂他的琴声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740640" y="4941720"/>
            <a:ext cx="1657080" cy="1743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38036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鼓琴，志在高山，钟子期曰：“善哉，峨峨兮／若／泰山！”志在流水，  钟子期曰：“善哉，洋洋兮／若／江河！”伯牙／所念，钟子期／必得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95672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509560" y="548640"/>
            <a:ext cx="4143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子期死，伯牙谓世再无知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乃破琴绝弦，终身不复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451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63953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伯牙绝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善鼓琴，钟子期善听。伯牙鼓琴，志在高山，钟子期曰：“善哉，峨峨兮若泰山！”志在流水，钟子期曰：“善哉，洋洋兮若江河！”伯牙所念，钟子期必得之。子期死，伯牙谓世再无知音，乃破琴绝弦，终身不复鼓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谢谢！ 老师们辛苦了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429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1484280"/>
            <a:ext cx="792000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炊烟袅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清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风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明月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春雨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白雪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芳草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杨柳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;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云雾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霞光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2832120"/>
            <a:ext cx="79218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徐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潇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萋萋                   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蒙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92720" y="2832120"/>
            <a:ext cx="17640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皎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皑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依依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灼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伯牙绝弦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Comic Sans MS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Comic Sans MS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伯牙绝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／善／鼓琴，钟子期／善听。伯牙鼓琴，志在高山，钟子期曰：“善哉，峨峨兮／若／泰山！”志在流水，  钟子期曰：“善哉，洋洋兮／若／江河！”伯牙／所念，钟子期／必得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子期死，伯牙／谓／世／再无知音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乃／破琴／绝弦，终身／不复鼓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6280" y="1268280"/>
            <a:ext cx="459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72440" y="981000"/>
            <a:ext cx="7898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伯牙善鼓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27240" y="981000"/>
            <a:ext cx="7898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钟子期善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11280" y="51804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伯牙鼓琴，志在高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钟子期曰：“善哉，峨峨兮若泰山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11720" y="83664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志在流水，钟子期曰：“善哉，洋洋兮若江河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32000" y="2349360"/>
            <a:ext cx="69850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清风徐徐           明月皎皎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芳草萋萋           杨柳依依      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春雨潇潇           白雪皑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云雾蒙蒙           霞光灼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93000" y="1484280"/>
            <a:ext cx="458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54936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伯牙鼓琴，志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，钟子期曰：“ 善哉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！”志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，钟子期曰 ：“善哉，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！”</a:t>
            </a: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所念，钟子期必得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8128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1T14:04:06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6:59Z</dcterms:modified>
  <cp:revision>36</cp:revision>
  <dc:subject>六十铺中小学教育网http://www.lspjy.com</dc:subject>
  <dc:title>六十铺中小学教育网http://www.lspjy.com</dc:title>
</cp:coreProperties>
</file>