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1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8FA-D32B-4E8D-B91F-8CFC916D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56A-E919-431A-90C2-33D44F8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016-68AF-4C8A-AD7F-14E2B32A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AA1-88D3-4FE3-BD17-7D7170F2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C86-7A28-4498-B3FC-73B602C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529-715E-4857-B19E-516E578F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528-76FE-44BF-9737-18F6B51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26A-B2A0-4670-BD13-94971EA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F1B-F8DA-42A4-9163-3959ED0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73B-C6B5-4D0A-9E8D-2464AE2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621-A323-4DCA-A8A0-86F9B70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986-2907-496A-A120-F4D1B66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EC5A-057C-4356-9B86-FB0389219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39680"/>
            <a:ext cx="8610480" cy="5410080"/>
            <a:chOff x="304920" y="139680"/>
            <a:chExt cx="8610480" cy="5410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04920" y="13968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0" y="3339720"/>
              <a:ext cx="2057400" cy="205704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162920" y="3720960"/>
              <a:ext cx="1371600" cy="12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 txBox="1"/>
          <p:nvPr/>
        </p:nvSpPr>
        <p:spPr>
          <a:xfrm>
            <a:off x="3200400" y="1143000"/>
            <a:ext cx="3429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别饿坏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那匹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6520" y="5791320"/>
            <a:ext cx="5976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“打你不为别的事，都像你这样白看书，人家怎么过日子？搬运队的马车夫需要马草，你可以扯马草换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——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0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——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6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”既是课文的题目，也是推动故事发生的关键句。文章用“别饿坏了那匹马”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推开了木板房的门，真相终于大白。“我”站在那一堆枯黄的马草前，脑海中也许会浮现出一幕幕往事；耳畔也许还会回响着守摊的残疾青年说过的每一句话；也许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我”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“我”在失去看书机会时，摆书摊的残疾青年谎称家中有马，买下“我”的马草，让“我”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“坐下慢慢看吧！”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”年轻人竭力想从轮椅上挣扎起来阻止我父亲，“孩子看书不是坏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“过来，让我看看你的马草。”他认真地看过马草后，冲里屋叫道：“碧云，你出来一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……”他急了，“碧云！碧云！”他用双手拼命摇着轮椅，想挡住我的路，“你放下！等碧云来拿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”他在身后喊道，“那马会踢伤你的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——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”——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79" name="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47Z</dcterms:modified>
  <cp:revision>261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