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009-D95A-42F7-9AC8-01CF969A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CDB-9603-4743-A083-86118F3F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30A-9DED-452B-A388-6DE4CA35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17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63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17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364-3953-4FD2-B209-D5F3A8B3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1C6-99DE-42D2-88E6-8A17DDA5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D02-818D-47FD-8955-9DE37C16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5E6-EF77-4F3E-9410-4D9C9D31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F82-2969-4BF0-B103-98435B79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3760" y="1386000"/>
            <a:ext cx="78613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92E-B3B5-4E9D-8F11-1731258E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5B0-9DA3-48D8-910D-D07E359E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9D1-9B95-4EBB-8575-155D3B9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F44-DAEB-485D-ACA7-3A351069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1520-CEEE-4126-80CA-538F48929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4880" y="1662120"/>
            <a:ext cx="49770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舞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360" y="1501920"/>
            <a:ext cx="8035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六岁的小女孩柔弱的身体成了黑脸大汉手中的一块生面团，翻过来、周过去、立起来、横过去，抻、拉、压、拽，为所欲为，奶奶看不过我被整得满脸的泪水和汗水，每次都目不忍视地躲到里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8680" y="3471480"/>
            <a:ext cx="6091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这里抓住几个动作，写出了“我”学艺的艰辛。从这里，我们能深刻地体会到了“我”这个被宠坏的小公主的勇气和毅力以及对艺术的执著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9440" y="3664080"/>
            <a:ext cx="19238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31760" y="1585800"/>
            <a:ext cx="37242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中宋"/>
              </a:rPr>
              <a:t>我的启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7520" y="4212720"/>
            <a:ext cx="57690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在艺术和生活的舞台上，勇气和毅力能让人走向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老实做人，认真演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9760" y="2511360"/>
            <a:ext cx="51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       </a:t>
            </a: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学习了这篇课文，你从中获得了怎样的人生启发呢？给大家说一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50880" y="1500120"/>
            <a:ext cx="2257560" cy="4564080"/>
            <a:chOff x="650880" y="1500120"/>
            <a:chExt cx="2257560" cy="45640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650880" y="3611520"/>
              <a:ext cx="224460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660240" y="1500120"/>
              <a:ext cx="2248200" cy="19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44640" y="1968480"/>
            <a:ext cx="25686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3960" y="1547280"/>
            <a:ext cx="2808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01880" y="2495520"/>
            <a:ext cx="25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溺爱娇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87720" y="2522520"/>
            <a:ext cx="55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指过分娇惯宠爱自己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6320" y="31273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不解之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89160" y="3151080"/>
            <a:ext cx="537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不能分开的缘分，指亲密的关系或深厚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1240" y="41148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身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83040" y="4140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戏曲演员在舞台上表演的各种舞蹈化的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4480" y="513864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窃窃私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3040" y="522144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私下里小声交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4240" y="1506600"/>
            <a:ext cx="1189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64240" y="1528920"/>
            <a:ext cx="3700440" cy="4530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9040" y="2471760"/>
            <a:ext cx="3173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华文中宋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9240" y="4080960"/>
            <a:ext cx="45226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舞台”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5480" y="2054160"/>
            <a:ext cx="5872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速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5040" y="3682800"/>
            <a:ext cx="643572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作者对“舞台”有着怎样的感情？请从文中找出相关的句子来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95920" y="1720800"/>
            <a:ext cx="170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3828960"/>
            <a:ext cx="73375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我在舞台上慢慢长大，舞台如一炉火，炼就了我的勇气和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90400" y="1460520"/>
            <a:ext cx="7961400" cy="1933560"/>
            <a:chOff x="590400" y="1460520"/>
            <a:chExt cx="7961400" cy="19335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780160" y="1460520"/>
              <a:ext cx="2771640" cy="19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3251160" y="1479600"/>
              <a:ext cx="23716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590400" y="1487520"/>
              <a:ext cx="2468880" cy="19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4560" y="1126800"/>
            <a:ext cx="578628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思考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为什么说“舞台对我有着神奇的吸引力”，文中哪些事例可以表明这一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2862000"/>
            <a:ext cx="685800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在娘胎里，“我”就“登台唱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刚会走路，“我”就在小床上模仿母亲“演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后来，“我”一直跟随母亲演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六岁时，“我”正式“拜师学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几年后，“我”在大师面前认真演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9560" y="1038240"/>
            <a:ext cx="15429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7640" y="1775880"/>
            <a:ext cx="645300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细读课文，感受“吸引力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3038400"/>
            <a:ext cx="67993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请大家细读课文，找出文中相关的句段并加以简要分析，从中感受“舞台”对“我”的“神奇的吸引力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3520" y="4635360"/>
            <a:ext cx="16318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15560" y="3890520"/>
            <a:ext cx="60152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段话中对“我”的描写充满了童趣，一个活泼可爱、热爱艺术的孩童的形象活生生地出现在我们面前，让人忍俊不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9280" y="1873080"/>
            <a:ext cx="64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①</a:t>
            </a: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一次，小花猫看得兴起，竟蹿上了床。我为赶它下“台”，脚下没留神，一个倒栽葱，摔下床来，直摔得我眼冒金星，半天没缓过劲儿来。</a:t>
            </a:r>
            <a:r>
              <a:rPr b="1" lang="zh-CN" sz="2800" spc="-1" strike="noStrike">
                <a:solidFill>
                  <a:srgbClr val="660033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6840" y="3936960"/>
            <a:ext cx="16905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2000" y="1774440"/>
            <a:ext cx="521964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每次演出，我一定要到台上去看，即使被挤在厚厚的幕布里，憋闷得满头是汗，也兴味盎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5840" y="3731760"/>
            <a:ext cx="70898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仿宋"/>
              </a:rPr>
              <a:t>台上在演出，一个小女孩钻在幕布里看戏，虽满头大汗却兴味盎然。透过厚厚的幕布，我们看到了一个孩子对评剧的钟爱，对艺术的执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3120" y="1433520"/>
            <a:ext cx="2089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8:57Z</dcterms:modified>
  <cp:revision>946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