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44D-5DDA-47A0-BC09-A38339E8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058-9FEC-4D0C-A835-FAA5CA9A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664-B0D7-47A5-BEE1-C39370D9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E1D-3605-41E4-BD79-C6AD4A63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205DC-A6E2-49C2-A3C9-304F68E5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1A104-06F0-4AFA-8DAB-300B63D6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BBE7E-E8A2-4DB1-977F-0863C188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16DFE-F881-4EA3-A504-CEF3D223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82816-65BA-480C-9425-E44A5052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9CC9C-BA48-4CC3-AFB9-A980F895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D42BE-4D75-4D3A-B3B1-9E5AB6EE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C7E-E042-4C0E-934D-E54605DB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3EC3B-39A3-4DF5-8E2C-64450B64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56579-BEAE-4921-8F82-9CABBBCF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20260-18AE-4E8D-BEC5-4A169755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6572E-3B50-4A3E-9528-78F14514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2BA09-62DC-4E16-9B92-0DFF6BA9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274D-053A-4F0F-A1B1-80BA86B6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3D05-68DD-4BF3-AD46-4A7652A9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18AB7-7193-419D-ADDB-C9FD2F1A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5F66-E572-4F7B-9192-D404FF16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E213B-6FC8-43DB-A8C1-E7FC4C08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1B6-41A8-4CBD-ADEC-5C05FB34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A045-203D-49D8-943D-997114F7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B54BE-4749-49DB-A593-FF744708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7E5A-0C3D-4BCD-840C-54F3426C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A0A6E-4663-40DA-99DC-326E7EA2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E06BB-B5C4-4659-B3F1-E0B49722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27C4F-5392-450B-89B8-527F9F60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D4379-D540-4A6E-AA83-8E1F5158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8B67-194F-43C5-BD2A-B955F98B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50D-F8D3-4A87-8FB8-1141B755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C1F-A4F0-4351-A1B9-725D7DDE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6EA-7CFA-498C-A3AC-51D4A228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089-1910-4706-9486-F32CDE3C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70E-E5B3-42E0-88D2-CF9B5130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C91D-07B6-4ACF-833D-E311695993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4123-9D91-424D-A155-249E1B67D1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ACA3-6398-4E8C-8AC3-7E6ADEE8EC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572040" y="1079640"/>
            <a:ext cx="219132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索溪峪的水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2195640" y="5589720"/>
            <a:ext cx="419076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索溪峪的水</a:t>
            </a:r>
            <a:endParaRPr b="0" lang="en-US" sz="6600" spc="-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35120" y="6288120"/>
            <a:ext cx="62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 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黄      龙      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756760" y="404640"/>
            <a:ext cx="28616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行楷"/>
              </a:rPr>
              <a:t>定海神针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557400" y="790560"/>
            <a:ext cx="219132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索溪峪的野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80360" cy="6264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5800" y="228600"/>
            <a:ext cx="77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索溪峪的山，是天然的美，是野性的美。这种美，是一种惊险的美：几十丈高的断壁悬崖拔地而起，半边悬空的巨石在山风中摇摇晃晃，游人仰头而掉帽，望石而惊心。什么“一线天”，什么“百丈峡”，闻名就使人胆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黑体"/>
              </a:rPr>
              <a:t>山是野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惊险的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几十丈高的悬崖拔地而起，半边悬空的巨石在山风中摇摇晃晃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使人望而生畏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什么“一线天”什么“百丈峡”听着名字就让人胆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012000" y="765000"/>
            <a:ext cx="2373120" cy="2167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580000" y="3284640"/>
            <a:ext cx="2078280" cy="2636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012000" y="6021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  <a:ea typeface="华文行楷"/>
              </a:rPr>
              <a:t>一线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2852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  <a:ea typeface="华文行楷"/>
              </a:rPr>
              <a:t>百丈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92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192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192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192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92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92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92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92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00000" y="1268280"/>
            <a:ext cx="36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191628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cc00"/>
                </a:solidFill>
                <a:latin typeface="Tahoma"/>
              </a:rPr>
              <a:t>．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11640" y="3500280"/>
            <a:ext cx="9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  <a:ea typeface="华文中宋"/>
              </a:rPr>
              <a:t>磅礴的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07920"/>
            <a:ext cx="37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华文中宋"/>
              </a:rPr>
              <a:t>山是野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42900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不是一峰独秀．也不是三五峰呼应，而是千峰万仞绵亘蜿蜒，“十里画廊”，“西海峰林”，令而浩气长舒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708360" cy="2349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067280" y="9810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华文中宋"/>
              </a:rPr>
              <a:t>十里画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076720" y="3429000"/>
            <a:ext cx="3233880" cy="2575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410680" y="4814640"/>
            <a:ext cx="42372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西海峰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5280" y="47628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华文中宋"/>
              </a:rPr>
              <a:t>山是野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03640" y="-1713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cc00"/>
                </a:solidFill>
                <a:latin typeface="Tahoma"/>
                <a:ea typeface="华文中宋"/>
              </a:rPr>
              <a:t>．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0" y="47628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  <a:ea typeface="华文中宋"/>
              </a:rPr>
              <a:t>随心所欲，不拘一格的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134136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或直插云天，或横拦绿水，旁逸斜出，崛起巍巍“斜山”；相对相依，宛如“热恋情人”；婷婷玉立，则好似“窈窕淑女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616720" y="4292640"/>
            <a:ext cx="3527280" cy="2451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9242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042920" y="59500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华文中宋"/>
              </a:rPr>
              <a:t>直插云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3429000"/>
            <a:ext cx="234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3716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华文中宋"/>
              </a:rPr>
              <a:t>横拦绿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8" dur="5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65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15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650"/>
                            </p:stCondLst>
                            <p:childTnLst>
                              <p:par>
                                <p:cTn id="2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150"/>
                            </p:stCondLst>
                            <p:childTnLst>
                              <p:par>
                                <p:cTn id="2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4211640" cy="3270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3357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4211640" cy="3573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140360" y="3284640"/>
            <a:ext cx="5003640" cy="3573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049240" y="1844640"/>
            <a:ext cx="109476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华文中宋"/>
              </a:rPr>
              <a:t>千峰竞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5 0.017 0.02131 0.021 0.03463 C 0.025 0.04928 0.027 0.06659 0.029 0.0839 C 0.031 0.10122 0.029 0.11587 0.027 0.13185 C 0.025 0.1465 0.022 0.16248 0.015 0.1758 C 0.009 0.18911 -0.001 0.19977 -0.012 0.20776 C -0.022 0.21575 -0.034 0.22108 -0.046 0.22374 C -0.058 0.2264 -0.07 0.2264 -0.081 0.22374 C -0.093 0.22108 -0.104 0.21442 -0.113 0.20376 C -0.122 0.19444 -0.13 0.18246 -0.134 0.16781 C -0.139 0.15449 -0.141 0.13584 -0.141 0.12119 C -0.142 0.10654 -0.141 0.08923 -0.136 0.07458 C -0.131 0.06126 -0.122 0.05061 -0.11 0.04528 C -0.098 0.04129 -0.086 0.04661 -0.078 0.05594 C -0.071 0.06526 -0.066 0.07991 -0.065 0.09722 C -0.065 0.11453 -0.066 0.13052 -0.071 0.14383 C -0.076 0.15715 -0.075 0.15982 -0.095 0.17713 C -0.113 0.19577 -0.131 0.19045 -0.142 0.19178 C -0.153 0.19178 -0.162 0.18645 -0.173 0.18112 C -0.185 0.17446 -0.195 0.16248 -0.202 0.15182 C -0.209 0.14117 -0.212 0.12785 -0.216 0.10654 C -0.219 0.08523 -0.219 0.07458 -0.219 0.0586 C -0.219 0.04262 -0.219 0.02664 -0.219 0.01065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189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华文中宋"/>
              </a:rPr>
              <a:t>水是野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484280"/>
            <a:ext cx="30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197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华文中宋"/>
              </a:rPr>
              <a:t>     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华文中宋"/>
              </a:rPr>
              <a:t>索溪就像一个从深山中蹦跳而出的野孩子，一会儿绕着山奔跑，一会儿撅着屁股，赌着气又自个儿闹去了．它尤其爱跟山路哥哥闹着玩：一会儿手牵手，并肩而行；一会横铲一脚，将山路拦腰截断。山路哥哥倒不觉得这有什么了不起，它请树木大树帮忙，几棵大树往索溪身上一搭，反从它身上跨过去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335592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7150"/>
                            </p:stCondLst>
                            <p:childTnLst>
                              <p:par>
                                <p:cTn id="2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042920" y="260280"/>
            <a:ext cx="43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33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华文中宋"/>
              </a:rPr>
              <a:t>水是野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1413000"/>
            <a:ext cx="49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华文中宋"/>
              </a:rPr>
              <a:t>      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华文中宋"/>
              </a:rPr>
              <a:t>山路哥哥还找石头弟弟帮忙，几块石头一垫，山路便化成一条虚线，一跳一跳地从水中过去了。山路还有更巧妙的办法，它在河床上垫一排大卵石，从水底下一个猛子扎过去，这样的“路”还可以过汽车——汽车吼叫着，车身摇晃着，卵石挤碰着，水花四溅，我们的心也怦怦直跳……平生没走过这么“野”的路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3924360" cy="490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35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</a:rPr>
              <a:t>动物是野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5640" y="2192400"/>
            <a:ext cx="741852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山上的野物当然更是“野”性十足了。那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大大小小的猴子，在我们头上的树枝间跳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跳去，亲热的劲头难以言状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当我们一行中的的一位年轻女同志从树下经过时，一只小猴子竟恶作剧地撒起尿来，吓得这位女同胞惊叫一声，慌忙逃走了。而那个调皮的小家伙，却快活的叫着，跳到另一棵树上去了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360960" y="30481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799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799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799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99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98"/>
                            </p:stCondLst>
                            <p:childTnLst>
                              <p:par>
                                <p:cTn id="3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998"/>
                            </p:stCondLst>
                            <p:childTnLst>
                              <p:par>
                                <p:cTn id="3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998"/>
                            </p:stCondLst>
                            <p:childTnLst>
                              <p:par>
                                <p:cTn id="3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998"/>
                            </p:stCondLst>
                            <p:childTnLst>
                              <p:par>
                                <p:cTn id="3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95280" y="573408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ahoma"/>
              </a:rPr>
              <a:t>树枝间跳来跳去的猴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78920" y="836280"/>
            <a:ext cx="8496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在这样的山水间行走，我们也渐渐变得“野”了起来。城里戴眼镜的姑娘，一边攀缘，一边嚼着煮熟的玉米棒；年过花甲的老人，在石块间蹦来蹦去，温习着儿时的功课。遇上突然横在面前的山溪，一队人手提皮鞋、丝袜，踩着乱石，从平膝的水中蹚过去…… 满山的嘻嘻哈哈，满溪的亲亲热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74760" y="1258920"/>
            <a:ext cx="509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87280" y="191628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3640" y="5084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26920" y="1052640"/>
            <a:ext cx="6409080" cy="115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人们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在这山水中返璞归真了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473720" y="260280"/>
            <a:ext cx="45864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4120" y="189000"/>
            <a:ext cx="139932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　线　天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　内景　外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067280" y="260280"/>
            <a:ext cx="5076720" cy="3816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051840" y="415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356000" y="4076640"/>
            <a:ext cx="460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舒体"/>
              </a:rPr>
              <a:t>百仗峡</a:t>
            </a:r>
            <a:endParaRPr b="0" i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95280" y="4049640"/>
            <a:ext cx="7848720" cy="280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3311640" cy="3673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54560" y="0"/>
            <a:ext cx="3889440" cy="414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-859320" y="404640"/>
            <a:ext cx="2191320" cy="5472360"/>
          </a:xfrm>
          <a:prstGeom prst="rect">
            <a:avLst/>
          </a:prstGeom>
          <a:solidFill>
            <a:srgbClr val="00ff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华文新魏"/>
              </a:rPr>
              <a:t>十里画廊游览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5229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5229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700360" y="5373720"/>
            <a:ext cx="451944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33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西海峰林</a:t>
            </a:r>
            <a:endParaRPr b="0" lang="en-US" sz="7200" spc="1" strike="noStrike">
              <a:ln w="12600">
                <a:solidFill>
                  <a:srgbClr val="ff00ff"/>
                </a:solidFill>
                <a:miter/>
              </a:ln>
              <a:solidFill>
                <a:srgbClr val="9933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71640" y="333360"/>
            <a:ext cx="44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天然的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62864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野性的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2924280"/>
            <a:ext cx="40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  <a:ea typeface="黑体"/>
              </a:rPr>
              <a:t>惊险的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414972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磅礴的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5300640"/>
            <a:ext cx="635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随心所欲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不拘一格的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413480" y="1295280"/>
            <a:ext cx="1190880" cy="42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25760" y="1295280"/>
            <a:ext cx="2191320" cy="4581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宝  峰  湖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0" y="508464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索溪峪的水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0" y="4005360"/>
            <a:ext cx="4238640" cy="96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索溪峪的水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43280" y="5157720"/>
            <a:ext cx="45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索溪峪的水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9280" y="5300640"/>
            <a:ext cx="419112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索溪峪的水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0:52:58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5:43Z</dcterms:modified>
  <cp:revision>14</cp:revision>
  <dc:subject>六十铺中小学教育网http://www.lspjy.com</dc:subject>
  <dc:title>六十铺中小学教育网http://www.lspjy.com</dc:title>
</cp:coreProperties>
</file>