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82D-9A66-41CF-B34F-E281F5D8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405-0849-4E00-B9AB-F5430D4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8EB-9D4F-49BD-AF0B-FCE64D2B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238-1DC4-4848-BF6A-BB1F7D16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FE4-E994-4ABB-996D-34B2BEBF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47F-6FD2-4394-A1C0-5CC936FC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748-8F5C-4610-8D98-047B4F2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5D0-6575-40EE-B016-F8D52182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8C0-4848-4E71-908B-18FAE81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EAB-9F9A-438D-973F-69CE481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79E-8D32-4EEB-ACAC-80405A4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134-A489-40C7-BD22-6F3CCAA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0AAE-9036-4BC3-92BF-74C02C7EEA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12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草虫的村落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41300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虫子们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3352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街小巷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色斑斓的小圆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披着俏丽的彩衣。在这些粗壮的黑甲虫中间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们好像南国的少女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逗得多少虫子驻足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10573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蜥蜴面前围拢了一群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这庞然大物投以好奇的目光。它们友好地交流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好像攀谈得很投机似的。看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蜥蜴好像忘记了旅途的劳倦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背着几个小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到处参观远房亲戚的住宅。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05264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1268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看见测气候者忙于观察气象，工程师忙于建筑设计……各种不同的工作，都有专门的虫子担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2704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十铺中小学教育网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735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954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883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人与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平等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　　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草虫的村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302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目光追随着爬行的的小虫，做了一次奇异的游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5495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我发现了草丛中小虫子的快乐天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课题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一句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63025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二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76500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09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3781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055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小虫子的世界中，究竟蕴藏着什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演奏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劳动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分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回应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拓展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升华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9079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5640" y="765000"/>
            <a:ext cx="7488360" cy="1820520"/>
            <a:chOff x="755640" y="765000"/>
            <a:chExt cx="7488360" cy="1820520"/>
          </a:xfrm>
        </p:grpSpPr>
        <p:sp>
          <p:nvSpPr>
            <p:cNvPr id="67" name=""/>
            <p:cNvSpPr/>
            <p:nvPr/>
          </p:nvSpPr>
          <p:spPr>
            <a:xfrm>
              <a:off x="755640" y="765000"/>
              <a:ext cx="74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Arial"/>
                  <a:ea typeface="楷体_GB2312"/>
                </a:rPr>
                <a:t>　　空间在我眼前扩大了，细密的草茎组成了茂盛的森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5640" y="119700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一只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只生着坚硬黑甲的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迷失在这座森林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1638360"/>
              <a:ext cx="74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　　　　　我想它一定是游侠吧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!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你看它虽然迷了路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仍傲然地前进着。它不断地左冲右撞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终于走出一条路。我的目光跟着它的脚步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路上遇到不少同伴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们互相打着招呼。我真想也跟它们　　一下，可惜我不懂它们的语言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788000" y="2133720"/>
            <a:ext cx="33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56536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99736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3236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344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1197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只英勇的黑甲虫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进了村子。我看见在许多同类虫子中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只娇小的从洞里跑出来迎接远归者。它们意味深长地对视良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156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原来，在小虫子的世界中，蕴藏着多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5699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我眼中，草虫的村落就是 </a:t>
            </a:r>
            <a:r>
              <a:rPr b="1" lang="zh-CN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981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甲虫音乐家们全神贯注地振着翅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1413000"/>
            <a:ext cx="78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　　　　　　　　    此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只有虫子们才能演奏出来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4:54Z</dcterms:modified>
  <cp:revision>38</cp:revision>
  <dc:subject>六十铺中小学教育网http://www.lspjy.com</dc:subject>
  <dc:title>六十铺中小学教育网http://www.lspjy.com</dc:title>
</cp:coreProperties>
</file>