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0B775-930D-4F32-AFA0-17A8C91BB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3DAF0-6AAB-40C5-AD78-7F8CEFAAB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06CA3-2206-438A-AFFD-8B17C6367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55F57-B0CE-404C-AFA8-0FC533A9F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CD776-DE3E-4707-BCAB-27CBDD34C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3DE85-E80B-4852-9B13-D1C25B9F3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FF55A-E171-454F-AF72-0D8FFE7F3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0363D-1F03-4E42-BCE2-91397AE9D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F2A9C-7FFA-4F4E-A960-AD2A2E2ED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E94B5-3B73-43B5-94AC-49A82BD47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62B38-22C2-4263-B5C4-F531AD0EF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5E3E3-22AA-40B2-BAA3-DD2FE1F6D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28211-D8FF-4289-AB72-266167559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6CF82-232F-4484-8529-F3EBCC353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24DB2-5702-45D7-B300-475FE38DC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11D29-BB28-4BC2-88F7-06AB8FF0A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84E88-EC36-4C2D-A6B9-67CF4A2E8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2E76B-2C27-434C-BEAF-AB04F126A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FA16D-0B1D-42F3-982D-1DEEEE6DA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92718-3342-4626-9F6D-2AA080DCC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31418-9402-48DD-B510-44CCA861E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1EFB4-953D-40EC-A627-B8A832155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9964A-904A-4E20-B32C-82B21C5FC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1E079-0A83-4EDA-9766-73E9BAB2A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框" descr=""/>
          <p:cNvPicPr/>
          <p:nvPr/>
        </p:nvPicPr>
        <p:blipFill>
          <a:blip r:embed="rId3"/>
          <a:stretch/>
        </p:blipFill>
        <p:spPr>
          <a:xfrm>
            <a:off x="117360" y="115920"/>
            <a:ext cx="8910720" cy="66261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34ACD-174A-4B61-B421-54EC5D253F9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820800" y="847800"/>
            <a:ext cx="7505640" cy="51624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紙角" descr=""/>
          <p:cNvPicPr/>
          <p:nvPr/>
        </p:nvPicPr>
        <p:blipFill>
          <a:blip r:embed="rId3"/>
          <a:stretch/>
        </p:blipFill>
        <p:spPr>
          <a:xfrm>
            <a:off x="762120" y="4038480"/>
            <a:ext cx="1374480" cy="2008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70DB4-E2CA-4D92-86C9-2DB4E50DA4B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1523880" y="1828800"/>
            <a:ext cx="487692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华文新魏"/>
              </a:rPr>
              <a:t>金色的脚印</a:t>
            </a:r>
            <a:endParaRPr b="1" lang="en-US" sz="6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华文新魏"/>
              <a:ea typeface="华文新魏"/>
            </a:endParaRPr>
          </a:p>
        </p:txBody>
      </p:sp>
      <p:sp>
        <p:nvSpPr>
          <p:cNvPr id="85" name=""/>
          <p:cNvSpPr/>
          <p:nvPr/>
        </p:nvSpPr>
        <p:spPr>
          <a:xfrm>
            <a:off x="3200400" y="4343400"/>
            <a:ext cx="44197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艳春小学   王艳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762120" y="1447920"/>
            <a:ext cx="70102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阅读提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看看狐狸是什么样子的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老狐狸为了救小狐狸都做了哪些事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正太郎是怎样做的，狐狸和正太郎之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间发生了哪些变化，为什么会有这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变化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说说你读了课文后的感受。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685800" y="2819520"/>
            <a:ext cx="7010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迎着耀眼的阳光，狐狸们的脚印，闪着金色的光芒，一直延伸到密林深处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1600200"/>
            <a:ext cx="3962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隶书"/>
              </a:rPr>
              <a:t>中心句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760040" y="2133720"/>
            <a:ext cx="175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亡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补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913640" y="2057400"/>
            <a:ext cx="174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到成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057400" y="205740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Times New Roman"/>
              </a:rPr>
              <a:t>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876920" y="198108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Times New Roman"/>
              </a:rPr>
              <a:t>马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143000" y="2236680"/>
            <a:ext cx="24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057400" y="281952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Times New Roman"/>
              </a:rPr>
              <a:t>牛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343400" y="2743200"/>
            <a:ext cx="266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犬不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837320" y="3505320"/>
            <a:ext cx="174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目寸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447920" y="2895480"/>
            <a:ext cx="222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对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弹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835520" y="4114800"/>
            <a:ext cx="185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腾虎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371600" y="426708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画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添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932120" y="4979880"/>
            <a:ext cx="22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人怕出名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怕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447920" y="3581280"/>
            <a:ext cx="236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仗人势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961520" y="26668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Times New Roman"/>
              </a:rPr>
              <a:t>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34290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Times New Roman"/>
              </a:rPr>
              <a:t>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76520" y="3505320"/>
            <a:ext cx="59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Times New Roman"/>
              </a:rPr>
              <a:t>狗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57400" y="4191120"/>
            <a:ext cx="838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Times New Roman"/>
              </a:rPr>
              <a:t>蛇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800600" y="403848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Times New Roman"/>
              </a:rPr>
              <a:t>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124080" y="487692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Times New Roman"/>
              </a:rPr>
              <a:t>猪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541520" y="1066680"/>
            <a:ext cx="2923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填上有关动物的词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90720" y="1219320"/>
            <a:ext cx="6095880" cy="29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3300"/>
                </a:solidFill>
                <a:latin typeface="Times New Roman"/>
                <a:ea typeface="隶书"/>
              </a:rPr>
              <a:t>血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色的母爱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母爱是伟大的、无私的，“血色的母爱”更是震撼人心的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228240" y="761760"/>
            <a:ext cx="75438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曾听到一位老农讲了一个黄鼠狼脱皮哺子故事：三年困难时期，他一家人经常找不到吃的。好在他会下夹子，偶尔也会夹到狐狸、黄鼠狼什么的。一天清晨，他去收夹子，见夹到一只黄鼠狼，拿起一看大吃一惊，手里是一张皮，黄鼠狼脱皮逃掉了。他想，没有皮的黄鼠狼肯定死在不远的什么地方。于是，他沿着血迹寻去，在河沟里发现黄鼠狼藏身的地洞，挖开一看，他被眼前的情景惊呆了：一窝还未睁眼的小黄鼠狼，正趴在脱了皮的已经僵硬了的母黄鼠狼身上，不断地吸吮着奶头。他呆了许久，把那张皮盖在母黄鼠狼身上，才含悲而去。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从此，这位老农不在下夹子捕兽了。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04920" y="838080"/>
            <a:ext cx="746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8600" y="762120"/>
            <a:ext cx="77724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57200" y="1143000"/>
            <a:ext cx="739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另一个故事是一位母亲断指哺儿。唐山大地震中，一对母子被深深压在废墟下，母亲半个身子被混凝土板卡着动弹不得。七八月大的婴孩在她的身下安然无恙。几天后，救助人员挖洞接近这对母子时，母亲刚刚咽下最后一口气，而那婴孩口里还含着母亲的食指，抱着孩子的生命，乳汁吸干了。她拼命咬断自己的指头，用鲜血让孩子存活下来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380880" y="1066680"/>
            <a:ext cx="72392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第三个故事是一本杂志上刊登的。东欧有对母女感情上有了裂痕，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13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岁的女儿一直认为是母亲的卑微地位，使她在人前抬不起头。母亲终日忙碌辛苦，也不能使女儿快乐起来。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2002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年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月，母亲邀女儿去阿尔卑斯山滑雪。母女在滑雪中，由于缺乏经验偏离滑雪道迷路了，又遭遇了可怕的雪崩。母女俩在雪山中挣扎了两天两夜，几次看见前来搜寻他们的直升机，都因他们身穿的是银灰色滑雪装，而未被发现。终于，女儿因体力不支昏迷过去，醒来时发现自己躺在医院里，而母亲已不在人事了。医生告诉她，是她的母亲用生命酒了她。原来，是母亲割断了自己的动脉在雪地里爬行，用自己的鲜血染红了一片白雪，直升机因此发现了目标。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这则“血色母爱”的故事曾让一个伟大的母亲把她的肾脏献给患尿毒症的女儿。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533520" y="2286000"/>
            <a:ext cx="7238880" cy="12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冰心奶奶曾说过：“世界上若没有女性，这世界至少要失去十分之五的真，十分之六的善，十分之七的美。”是的，这世界就是因为有了女性，有了母亲，有了母爱，才如此亮丽灿烂、多姿多彩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39640" y="494172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更多全套免费课件下载地址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六十铺中小学教育网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http://www.lspjy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04:11:31Z</dcterms:created>
  <dc:creator>六十铺中小学教育网http://www.lspjy.com</dc:creator>
  <dc:description>六十铺中小学教育网http://www.lspjy.com</dc:description>
  <cp:keywords>六十铺中小学教育网http://www.lspjy.com</cp:keywords>
  <dc:language>en-US</dc:language>
  <cp:lastModifiedBy>微软用户</cp:lastModifiedBy>
  <dcterms:modified xsi:type="dcterms:W3CDTF">2010-07-10T10:06:06Z</dcterms:modified>
  <cp:revision>13</cp:revision>
  <dc:subject>六十铺中小学教育网http://www.lspjy.com</dc:subject>
  <dc:title>六十铺中小学教育网http://www.lspjy.com</dc:title>
</cp:coreProperties>
</file>