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B5A-6AA6-46D0-AE57-AEC1E685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593-F4BA-46D8-9B8D-64A5A62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350-690F-494D-821F-89C43B16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9A7-24BC-425C-9AA8-E830E5AE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232-A5FD-429E-95B7-E9EF328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0DB-7746-471E-8566-B90AA733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23F-5227-4EE5-A88E-CEE1CCC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E60-F299-4B73-80FF-7F805C8D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E8-24E4-4C8F-9296-90123837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75A-77E3-4BEF-9396-A6DABA5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78C-DC9F-4CE2-8CFE-A44B122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3C7-A9CB-4C9A-8EE8-F36E1CE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9D1-F85F-4FC8-AF79-33672FC55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8526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5 </a:t>
            </a: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詹天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0360" y="1125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测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49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开凿隧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4437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设计“人”字形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263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筑铁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70028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9880" y="981000"/>
            <a:ext cx="76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困难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嘲笑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毅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了任务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马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勘测线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开山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架桥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陡坡铲平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弯度改小，都要经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勘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进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23493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1052640"/>
            <a:ext cx="7004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和工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扛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纬仪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峭壁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点、测绘。塞外常常狂风怒号，黄沙满天，一不小心还有坠入深谷的危险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怎样恶劣，詹天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始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持在野外工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翻山越岭，勘测线路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晚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5280" y="1916280"/>
            <a:ext cx="63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国人自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筑的第一条铁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把它修好；否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惹外国人讥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还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5335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米，有居庸关隧道的三倍长。他跟老工人一起商量，决定采用中部凿井法。先从山顶往下打一口竖井，再分别向两头开凿，两头也同时施工，把工期缩短一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5493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居庸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隧道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八达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隧道的工程最艰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94" name=""/>
            <p:cNvSpPr/>
            <p:nvPr/>
          </p:nvSpPr>
          <p:spPr>
            <a:xfrm>
              <a:off x="2971800" y="5334120"/>
              <a:ext cx="1507320" cy="485640"/>
            </a:xfrm>
            <a:prstGeom prst="rightArrow">
              <a:avLst>
                <a:gd name="adj1" fmla="val 50000"/>
                <a:gd name="adj2" fmla="val 7759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9320" y="4800600"/>
            <a:ext cx="6933960" cy="533520"/>
            <a:chOff x="1219320" y="4800600"/>
            <a:chExt cx="6933960" cy="533520"/>
          </a:xfrm>
        </p:grpSpPr>
        <p:sp>
          <p:nvSpPr>
            <p:cNvPr id="103" name="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0572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106" name="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部凿井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116" name=""/>
            <p:cNvSpPr/>
            <p:nvPr/>
          </p:nvSpPr>
          <p:spPr>
            <a:xfrm>
              <a:off x="685800" y="5257800"/>
              <a:ext cx="1027800" cy="457200"/>
            </a:xfrm>
            <a:prstGeom prst="rightArrow">
              <a:avLst>
                <a:gd name="adj1" fmla="val 50000"/>
                <a:gd name="adj2" fmla="val 5620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119" name="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123" name=""/>
            <p:cNvSpPr/>
            <p:nvPr/>
          </p:nvSpPr>
          <p:spPr>
            <a:xfrm>
              <a:off x="4191120" y="5257800"/>
              <a:ext cx="1001880" cy="457200"/>
            </a:xfrm>
            <a:prstGeom prst="righ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89480" y="5257800"/>
              <a:ext cx="1001880" cy="457200"/>
            </a:xfrm>
            <a:prstGeom prst="lef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部凿井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2220840" cy="283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360" y="620640"/>
            <a:ext cx="5256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生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逝世，享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广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南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居住在湖南省，他是中国首位铁路工程师，负责修建了京张铁路（北京——张家口）等铁路工程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中国铁路之父”、“中国近代工程之父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268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126828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95440"/>
            <a:ext cx="5761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2637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637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05120" y="4495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赞叹不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叹不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505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236700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8120" y="1295280"/>
            <a:ext cx="5638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4586400"/>
            <a:ext cx="8381880" cy="1358640"/>
            <a:chOff x="228600" y="4586400"/>
            <a:chExt cx="8381880" cy="1358640"/>
          </a:xfrm>
        </p:grpSpPr>
        <p:sp>
          <p:nvSpPr>
            <p:cNvPr id="172" name=""/>
            <p:cNvSpPr/>
            <p:nvPr/>
          </p:nvSpPr>
          <p:spPr>
            <a:xfrm>
              <a:off x="228600" y="45864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真是一位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杰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工程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542448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的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爱国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精神令人敬佩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762120" y="533520"/>
            <a:ext cx="2743200" cy="1752120"/>
            <a:chOff x="762120" y="533520"/>
            <a:chExt cx="2743200" cy="175212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762120" y="706320"/>
              <a:ext cx="19047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523880" y="53352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1280" y="4292640"/>
            <a:ext cx="7695720" cy="1630440"/>
            <a:chOff x="611280" y="4292640"/>
            <a:chExt cx="7695720" cy="1630440"/>
          </a:xfrm>
        </p:grpSpPr>
        <p:sp>
          <p:nvSpPr>
            <p:cNvPr id="180" name=""/>
            <p:cNvSpPr/>
            <p:nvPr/>
          </p:nvSpPr>
          <p:spPr>
            <a:xfrm>
              <a:off x="2668320" y="523728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1280" y="4292640"/>
              <a:ext cx="2133360" cy="1630440"/>
              <a:chOff x="611280" y="4292640"/>
              <a:chExt cx="2133360" cy="1630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29264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992160" y="485640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85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91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89000"/>
            <a:ext cx="1655640" cy="907920"/>
          </a:xfrm>
          <a:prstGeom prst="cloudCallout">
            <a:avLst>
              <a:gd name="adj1" fmla="val -42615"/>
              <a:gd name="adj2" fmla="val 6993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765000"/>
            <a:ext cx="6840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记叙了詹天佑在主持修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          ）的过程中，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帝国主义者（             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克服工程中的千难万险，提前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修筑任务的事迹，表现了詹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佑是一位（　　）的（　　）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程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京张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349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挟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486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5280" y="90792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wěi    jùn    mi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349360"/>
            <a:ext cx="6049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纬度    竣工    藐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经纬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989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纬     竣     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79640" y="76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òu    miè   cháo    kān    pā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64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ī    jiāng    chà      t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佑      蔑     嘲       勘      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292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讥     浆      岔      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234936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佑    轻蔑   嘲笑    勘探     攀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佑护    蔑视   嘲讽    勘察     攀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157720"/>
            <a:ext cx="61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讽    泥浆    打岔      铜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笑    糖浆    岔路      铜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71640" y="1341360"/>
            <a:ext cx="4608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蔑    藐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勘    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112536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结     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修筑    控制     争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挟    轻蔑    居庸关   高山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峭壁   嘲笑  毅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   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纬   大概   狂风怒号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越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讥笑   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   泥浆    岔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   铜像   赞叹不已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400536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杰出的爱国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6920" y="4005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02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5280" y="227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北京到张家口这一段铁路，最早是在他的主持下修筑成功的。这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条完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我国的工程技术人员设计施工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路干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5300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义重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09Z</dcterms:modified>
  <cp:revision>42</cp:revision>
  <dc:subject/>
  <dc:title>六十铺中小学教育网http://www.lspjy.com</dc:title>
</cp:coreProperties>
</file>