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wmf" ContentType="image/x-wmf"/>
  <Override PartName="/ppt/media/image8.wmf" ContentType="image/x-wmf"/>
  <Override PartName="/ppt/media/image11.jpeg" ContentType="image/jpeg"/>
  <Override PartName="/ppt/media/chimes.wav" ContentType="audio/x-wav"/>
  <Override PartName="/ppt/media/image16.gif" ContentType="image/gif"/>
  <Override PartName="/ppt/media/image14.jpeg" ContentType="image/jpeg"/>
  <Override PartName="/ppt/media/image15.jpeg" ContentType="image/jpeg"/>
  <Override PartName="/ppt/media/image13.jpeg" ContentType="image/jpeg"/>
  <Override PartName="/ppt/media/image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9.wmf" ContentType="image/x-wmf"/>
  <Override PartName="/ppt/media/image6.wmf" ContentType="image/x-wmf"/>
  <Override PartName="/ppt/media/image12.png" ContentType="image/pn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002D-49E5-428B-A67C-B5106F7D4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C0A7-7BF4-4E7A-B875-9C87F41E9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6DCE-C894-4A79-BC97-AE29F65F8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6D70-A20C-41B3-9E04-147FD1033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82DF4-0550-47D7-B213-57AA1DEA7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2C208-F836-4605-ACCD-35AE471FD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41BB6-EF00-4213-8931-441692CC6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3258D-F6D1-44D9-AC59-57DF375EA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566C6-A9BA-475F-8143-3EB0DBCC8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12B9E-F6F5-4B23-A3A1-7407F0E26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9227B-4A6B-4E0E-9547-6D962F53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B600-1AAC-4586-B8C8-2A2E1606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0794B-D93F-472E-BB52-B9E0CAB9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0CDFF-8E03-42B1-A1C1-48BD4582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4055F-F433-4EC1-AEB5-1BBFC6A1F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1C1ED-0426-4DA5-A856-ED2A28AEA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B579D-968E-4CD1-A9C7-B647CF812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FFE92-C107-4455-BDA0-996447B53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F4576-B955-4AA5-AE66-178F694AC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84E04-3653-4A1F-99B4-38093710D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F5ADF-4F55-4A03-A3DB-3D23D4677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8D71B-B20D-41AC-A57C-2E8148B48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43DA-A8EF-41C3-A43F-FBDB5502A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7BF6A-690F-4AB5-8A8A-7227B795C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98AA1-C414-4464-98A6-BF199809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165AD-2F5D-4490-8531-C5468C8F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036FF-E6B1-4EA5-A2D9-346FBD65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76748-3CF6-4D94-A305-E77E2012B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AC6A8-4711-4A7E-82A1-C830E6739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0B43C-B6E6-4F74-88C2-188B65CE2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57761-0D77-439A-BB4C-1268E91DF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9A133-CB7B-4A6E-9FA2-1B37EEFFB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2EE7A-606F-4893-B517-B6C746B2E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DDD9-4EA1-4085-94FB-5CE205C2C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61D2A-E265-4A02-B997-00469BA30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ECE19-BF60-4B01-9658-97A1ED9B1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744E6-34C4-43D8-B0D0-807034F3F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C8D2F-BDA3-4B77-A526-73C82EAB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1F1BF-2C26-4354-A791-6D1879D5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E9B80-33ED-4F18-B9FF-B58BEE54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2E9E1-B617-4191-9C28-97702FE78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3BEB6-3D59-489E-99F8-0DBF3A41B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36BA5-AABA-4215-89DC-B175CB525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0B89-924B-4DFF-99E3-45251C43D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6F01-9EAB-4BC3-97BA-CDFA3FC74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2B70-470F-4BB5-BCBE-302B9E94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C6D6-C52E-4B38-A266-BE791E31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ADB7-AE25-46EE-B9C3-7A283319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36D7B-E5FD-4F68-85FB-209265CAB45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F73D1-0C90-4BE9-B652-B24F5FF5861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C92B9-41CB-4A29-9DD8-CB1566C63D73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D2BD6-736A-4794-9A23-DF80E5BAE764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image" Target="../media/image16.gif"/><Relationship Id="rId8" Type="http://schemas.openxmlformats.org/officeDocument/2006/relationships/image" Target="../media/image16.gi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2195640" y="1268280"/>
            <a:ext cx="38876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一面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619280" y="3860640"/>
            <a:ext cx="561672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前面是一条路，</a:t>
            </a:r>
            <a:endParaRPr b="1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先生没有走完就倒下了，</a:t>
            </a:r>
            <a:endParaRPr b="1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我们只有踏着他的血的足印，</a:t>
            </a:r>
            <a:endParaRPr b="1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继续前进。</a:t>
            </a:r>
            <a:endParaRPr b="1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116000" y="1557360"/>
            <a:ext cx="51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精读课文第一部分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58920" y="2781360"/>
            <a:ext cx="59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33cc"/>
                </a:solidFill>
                <a:latin typeface="宋体"/>
              </a:rPr>
              <a:t>、课文对鲁迅先生几次肖像描写？重点写他什么特征？为什么这样写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32000" y="41497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33cc"/>
                </a:solidFill>
                <a:latin typeface="宋体"/>
              </a:rPr>
              <a:t>、怎样理解“同志、朋友、父亲、师傅、战士”的含义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906560" y="206064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作者阿累只是一个普通汽车售票员，可鲁迅先生亲自接待并价卖书、赠书，可见鲁迅先生对进步青年的关心爱护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47640" y="588960"/>
            <a:ext cx="288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总 结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708360" y="54936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自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273280" y="1268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鲁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5280" y="260280"/>
            <a:ext cx="17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拓读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90440" y="1982880"/>
            <a:ext cx="280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运交华盖欲何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03320" y="2778120"/>
            <a:ext cx="280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未敢翻身已碰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03320" y="3570120"/>
            <a:ext cx="280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破帽遮颜过闹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47520" y="4362480"/>
            <a:ext cx="280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漏船载酒泛中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52920" y="198612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横眉冷对千夫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21240" y="277812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俯首甘为孺子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71040" y="35701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躲进小楼成一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276880" y="436248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管他冬夏与春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914400" y="5562720"/>
            <a:ext cx="7009920" cy="837360"/>
            <a:chOff x="914400" y="5562720"/>
            <a:chExt cx="7009920" cy="837360"/>
          </a:xfrm>
        </p:grpSpPr>
        <p:pic>
          <p:nvPicPr>
            <p:cNvPr id="242" name="" descr=""/>
            <p:cNvPicPr/>
            <p:nvPr/>
          </p:nvPicPr>
          <p:blipFill>
            <a:blip r:embed="rId2"/>
            <a:stretch/>
          </p:blipFill>
          <p:spPr>
            <a:xfrm>
              <a:off x="7316640" y="5562720"/>
              <a:ext cx="60768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/>
            <p:cNvPicPr/>
            <p:nvPr/>
          </p:nvPicPr>
          <p:blipFill>
            <a:blip r:embed="rId3"/>
            <a:stretch/>
          </p:blipFill>
          <p:spPr>
            <a:xfrm>
              <a:off x="6343920" y="5614920"/>
              <a:ext cx="607680" cy="78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4"/>
            <a:stretch/>
          </p:blipFill>
          <p:spPr>
            <a:xfrm>
              <a:off x="5290200" y="5614920"/>
              <a:ext cx="607680" cy="78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5"/>
            <a:stretch/>
          </p:blipFill>
          <p:spPr>
            <a:xfrm>
              <a:off x="4237200" y="5614920"/>
              <a:ext cx="607320" cy="78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" descr=""/>
            <p:cNvPicPr/>
            <p:nvPr/>
          </p:nvPicPr>
          <p:blipFill>
            <a:blip r:embed="rId6"/>
            <a:stretch/>
          </p:blipFill>
          <p:spPr>
            <a:xfrm>
              <a:off x="3062160" y="5614920"/>
              <a:ext cx="607320" cy="78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" descr=""/>
            <p:cNvPicPr/>
            <p:nvPr/>
          </p:nvPicPr>
          <p:blipFill>
            <a:blip r:embed="rId7"/>
            <a:stretch/>
          </p:blipFill>
          <p:spPr>
            <a:xfrm>
              <a:off x="1886760" y="5614920"/>
              <a:ext cx="607680" cy="78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8"/>
            <a:stretch/>
          </p:blipFill>
          <p:spPr>
            <a:xfrm>
              <a:off x="914400" y="5614920"/>
              <a:ext cx="607680" cy="78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"/>
          <p:cNvSpPr/>
          <p:nvPr/>
        </p:nvSpPr>
        <p:spPr>
          <a:xfrm>
            <a:off x="2050920" y="4869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全套免费课件下载地址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六十铺中小学教育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828800" y="480060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3392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867280" y="4221000"/>
            <a:ext cx="23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1881-193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2133720"/>
            <a:ext cx="32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鲁迅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浙江绍兴人。文学家，思想家，革命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1187280" y="1052640"/>
            <a:ext cx="21384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作者介绍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0" name=""/>
          <p:cNvSpPr/>
          <p:nvPr/>
        </p:nvSpPr>
        <p:spPr>
          <a:xfrm>
            <a:off x="755640" y="2205000"/>
            <a:ext cx="655308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ee0000"/>
                </a:solidFill>
                <a:latin typeface="Tahoma"/>
              </a:rPr>
              <a:t>     </a:t>
            </a:r>
            <a:r>
              <a:rPr b="1" lang="zh-CN" sz="3000" spc="-1" strike="noStrike">
                <a:solidFill>
                  <a:srgbClr val="ee0000"/>
                </a:solidFill>
                <a:latin typeface="Tahoma"/>
              </a:rPr>
              <a:t>阿累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，真名朱凡，原名朱一苇，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1909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年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月生，江苏涟水人。在南京金陵大学附中、上海立达学园、同文书院学习过，毕业与上海艺术大学。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1931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年参加反帝大同盟。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1932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年参加 “右翼剧联”， 同年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月考进上海英商公共汽车公司当售票员，不久加入中国共产党。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1933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年因参加工人罢工被捕判刑，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1935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年经人保释出狱，旋赴马来西亚，参加马来西亚共产党活动，被官方侦悉，迫令出境。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1936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年复返上海，从事写作和翻译。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1937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年，抗战开始，参加新四军。此后一直在部队和地方做文教和行政工作。解放后，历任湖南革命大学副校长、省文教厅厅长、省委宣传部长、湖南大学校长等职。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1983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年离休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ccffff"/>
            </a:gs>
            <a:gs pos="100000">
              <a:srgbClr val="99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835280" y="1916280"/>
            <a:ext cx="5089320" cy="4730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835280" y="2637000"/>
            <a:ext cx="5041800" cy="4665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1763640" y="3309840"/>
            <a:ext cx="5484960" cy="4064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1768320" y="3946680"/>
            <a:ext cx="5180040" cy="4190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4724280" y="151596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00360" y="18921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qià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796000" y="18921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jiǒ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81360" y="2637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u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05360" y="2637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ū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95480" y="32846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kā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21360" y="3213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z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16360" y="3908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638680" y="38606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ǒ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743200" y="4495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u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4495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hóuch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5"/>
          <a:stretch/>
        </p:blipFill>
        <p:spPr>
          <a:xfrm>
            <a:off x="1763640" y="4581360"/>
            <a:ext cx="5616720" cy="398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55640" y="620640"/>
            <a:ext cx="23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注音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ccffff"/>
            </a:gs>
            <a:gs pos="100000">
              <a:srgbClr val="99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835280" y="1916280"/>
            <a:ext cx="5089320" cy="4730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1835280" y="2637000"/>
            <a:ext cx="5041800" cy="4665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1763640" y="3309840"/>
            <a:ext cx="5484960" cy="4064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1768320" y="3946680"/>
            <a:ext cx="5180040" cy="4190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724280" y="151596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700360" y="18921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qià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796000" y="18921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jiǒ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781360" y="2637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u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05360" y="2637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ū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95480" y="32846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kā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21360" y="3213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z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916360" y="3908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638680" y="38606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ǒ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743200" y="4495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u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562720" y="4495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hóuch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5"/>
          <a:stretch/>
        </p:blipFill>
        <p:spPr>
          <a:xfrm>
            <a:off x="1763640" y="4581360"/>
            <a:ext cx="5616720" cy="3985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755640" y="620640"/>
            <a:ext cx="23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注音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476360" y="1197000"/>
            <a:ext cx="693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课文中表示时间的词语有那些？根据这些词语，我们可以判定本文本文采用了那种写作顺序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76360" y="2924280"/>
            <a:ext cx="63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你认为可把课文划分为几个层次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5280" y="26028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初读课文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476360" y="3789360"/>
            <a:ext cx="4968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、分组讨论下列“镜头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）书店全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）书架一角的近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）一本书特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99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93" dur="1" fill="hold"/>
                                  <p:tgtEl>
                                    <p:spTgt spid="2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643280" y="692280"/>
            <a:ext cx="4500720" cy="46083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425124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9" dur="1" fill="hold"/>
                                  <p:tgtEl>
                                    <p:spTgt spid="2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ccffff"/>
            </a:gs>
            <a:gs pos="100000">
              <a:srgbClr val="99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28600" y="260280"/>
            <a:ext cx="67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复述课文，弄清事情的六要素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126828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时间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124000" y="1268280"/>
            <a:ext cx="276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93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秋天的一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55640" y="19162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地点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124000" y="19162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内山书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55640" y="25401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人物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95560" y="254016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，鲁迅，内山完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57080" y="321300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起因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50920" y="321300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因接班还要等半个钟头，到内山书店躲雨、歇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93372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翻看书籍，内山老板殷勤接待，买书缺钱，与鲁迅会面、交谈并接受赠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92280" y="5157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结果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68480" y="5157720"/>
            <a:ext cx="577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从“一面”中受到巨大的鼓舞和影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54200" y="390852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经过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500"/>
                            </p:stCondLst>
                            <p:childTnLst>
                              <p:par>
                                <p:cTn id="2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000"/>
                            </p:stCondLst>
                            <p:childTnLst>
                              <p:par>
                                <p:cTn id="24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5T16:08:08Z</dcterms:created>
  <dc:creator>六十铺中小学教育网http://www.lspjy.com</dc:creator>
  <dc:description>六十铺中小学教育网http://www.lspjy.com</dc:description>
  <cp:keywords>六十铺中小学教育网http://www.lspjy.com</cp:keywords>
  <dc:language>en-US</dc:language>
  <cp:lastModifiedBy>微软用户</cp:lastModifiedBy>
  <dcterms:modified xsi:type="dcterms:W3CDTF">2010-07-10T10:02:04Z</dcterms:modified>
  <cp:revision>16</cp:revision>
  <dc:subject>六十铺中小学教育网http://www.lspjy.com</dc:subject>
  <dc:title>六十铺中小学教育网http://www.lspjy.com</dc:title>
</cp:coreProperties>
</file>