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0E72-957F-4E2D-97F2-6D250C5CE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AF9F-EEF7-45F1-B5AC-AA8BCFB6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5876-3FC4-42FA-AB87-E1002719A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2BFB-5E61-4EAE-A415-38675FBB5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4AE6-5818-4C99-8DBD-ABC14085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89B7-0BA8-4C1E-B514-D3644309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6F23-9E02-42FD-BA1B-B32DA511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7597-E9D4-40B4-AAC9-444E4457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927B-FE64-447A-9B1F-6CF11F9C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FD0D-2E2B-479F-B319-60E29D14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7ECD-2A04-473F-8C90-2657B3ED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452F-4BB5-41F5-9C41-76F797D1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E2C3-5C27-46E1-81FB-36764DE95D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YW09180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523880" y="4876920"/>
            <a:ext cx="7239240" cy="121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752480" y="5029200"/>
            <a:ext cx="6858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ff"/>
                    </a:gs>
                  </a:gsLst>
                  <a:lin ang="13500000"/>
                </a:gradFill>
                <a:latin typeface="汉鼎简姚体"/>
              </a:rPr>
              <a:t>我的伯父鲁迅先生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lin ang="13500000"/>
              </a:gradFill>
              <a:latin typeface="汉鼎简姚体"/>
              <a:ea typeface="汉鼎简姚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070760" y="838080"/>
            <a:ext cx="549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40328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的确，伯父就是这样的一个人，他为自己想的少，为别人想得多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那时侯，我有点惊异了，为什么伯父得到这么人的爱戴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比较下面句子，并说一说，哪个句子写得好？为什么？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呆呆地望着来来往往吊唁的人，心　里非常悲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呆呆地望着来来往往吊唁的人，想到我就要永远见不到伯父的面了，听不到他的声音了，也得不到他的爱抚了，泪珠就一滴一滴地掉下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30481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411480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86600" y="411480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457200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can0008" descr=""/>
          <p:cNvPicPr/>
          <p:nvPr/>
        </p:nvPicPr>
        <p:blipFill>
          <a:blip r:embed="rId1"/>
          <a:stretch/>
        </p:blipFill>
        <p:spPr>
          <a:xfrm>
            <a:off x="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rot="2361600">
            <a:off x="5830920" y="-68400"/>
            <a:ext cx="2954160" cy="3429000"/>
          </a:xfrm>
          <a:prstGeom prst="cloudCallout">
            <a:avLst>
              <a:gd name="adj1" fmla="val -59601"/>
              <a:gd name="adj2" fmla="val 433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29400" y="22860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哈哈，还是我的记性好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90720" y="211932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想，四周围黑洞洞的，还不容易碰壁吗？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38480" y="205740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四周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2057400"/>
            <a:ext cx="243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黑洞洞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80512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碰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548496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更多全套免费课件下载地址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六十铺中小学教育网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4T08:44:25Z</dcterms:created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10:01:31Z</dcterms:modified>
  <cp:revision>12</cp:revision>
  <dc:subject>六十铺中小学教育网http://www.lspjy.com</dc:subject>
  <dc:title>六十铺中小学教育网http://www.lspjy.com</dc:title>
</cp:coreProperties>
</file>