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D76-F318-48D8-8DA4-39B9B232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01E-7207-4FAA-B51B-B892F23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937-81B1-45C6-A41B-AA23B1D8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270-7EC6-47B1-8528-B2629D9C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39E-A50A-4C5F-AA54-454AE66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CDD-EECC-4A16-BBD6-D956B393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5A7-60BD-48F7-A70C-D29DABE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474-A243-4D45-B436-662C102C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E54-E4B8-4314-B2C6-2DCAD21F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D16-D0E1-444F-A510-74060C7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E46-2BBB-4DDA-AD7C-04C9521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BFF-B13F-4C97-84CF-13AC32B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5D6-D7CB-44E4-9015-507DFAD6E1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38360" y="2998800"/>
            <a:ext cx="41673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月光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09840" y="93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分两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080" y="1866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段（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5760" y="1843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5600" y="182880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介绍著名的钢琴曲——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德国音乐家贝多芬谱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1960" y="2816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段（        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30280" y="2816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3520" y="2743200"/>
            <a:ext cx="4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介绍贝多芬谱写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2880" y="36194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5240" y="359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在散步时听到有人弹他的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40528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51600" y="40528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走进茅屋，为盲姑娘弹了两首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8160" y="4510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3000" y="45100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根据记忆谱成了著名的《月光曲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2520" y="32767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2880" y="103176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“断断续续”的钢琴声，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60600" y="17175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断续续”的钢琴声，说明盲姑娘喜欢贝多芬的曲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弹得不熟练；还说明贝多芬听到有人弹他得曲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熟练，菜走进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8680" y="3241800"/>
            <a:ext cx="35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真是“随便说说”的吗？她为什么要对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这么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8200" y="430848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便说说罢了”是盲姑娘对她哥哥的劝慰。她怕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买不起音乐会的入场券而心里难过，所以这样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实她很想“听一听贝多芬自己是怎样弹的”，这表明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娘非常体谅哥哥的难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560" y="91440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能听出贝多芬钢琴弹得纯熟，感情深，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什么？“您，您……”表达了盲姑娘怎样的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0840" y="18288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盲姑娘能听出贝多芬钢琴弹得纯熟，感情深，说明盲姑娘不仅爱音乐而且懂音乐。她从琴声中体会出演奏者的“感情多深”，从“纯熟”的演奏技巧中猜到演奏者就是贝多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5200" y="359712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从课文中哪些词句可以看出兄妹俩被美妙的琴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陶醉”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04120" y="460368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鞋匠静静地听着。”“月光正照在她那恬静地脸上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他们苏醒过来，贝多芬早已离开了茅屋。”从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句可以看出兄妹俩被美妙的琴声“陶醉”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06120" y="1600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多芬坐在钢琴前面，弹起盲姑娘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那首曲子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2120" y="2174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飞奔回客店，花了一夜工夫，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曲子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月光曲》记录了下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8160" y="955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两个句子中的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”分别指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0" y="324180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听到盲姑娘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她哥哥的谈话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2000" y="446076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为盲姑娘弹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一首曲子，盲姑娘听出他是贝多芬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15960" y="1415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为什么贝多芬要给盲姑娘弹钢琴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听到盲姑娘在弹他的曲子，十分渴望能听到他的演奏，可是家境贫苦，买不起音乐会的入场券，但她很懂事，体谅哥哥的难处，所以贝多芬决定亲自给盲姑娘弹钢琴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67760" y="141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弹完一首，为什么又弹一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59600" y="141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是怎样吧第二首曲子记录下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即兴弹完第二首曲子后心情十分激动，飞奔回客店，连夜记录下了《月光曲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72160" y="882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再读课文，归纳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280" y="1676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助课题《月光曲》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8520" y="2286000"/>
            <a:ext cx="10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谁谱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怎样谱写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6200" y="3678120"/>
            <a:ext cx="8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《月光曲》这个故事的人物、起因、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结果，连起来说说，归纳课文主要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62680" y="98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3480" y="2098800"/>
            <a:ext cx="67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99ff"/>
                </a:solidFill>
                <a:latin typeface="Times New Roman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40080" y="116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68960" y="179388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语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意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背诵课文第九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9172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现在，让我们来欣赏一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4520" y="21178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《月光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8160" y="350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在曲子里听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0080" y="4800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听出贝多芬的心声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240" y="1752480"/>
            <a:ext cx="412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下课</a:t>
            </a:r>
            <a:endParaRPr b="1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贝多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17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出生于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波恩一个音乐家的家庭。从小学习钢琴和小提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举行首次公开演奏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开始作曲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定居维也纳。当时正是奥地利封建统治最黑暗的时代。他十分憎恨专权暴政，极其蔑视封建贵族的褊狭庸俗。他早年受到启蒙运动和法国资产阶级革命影响，毕生追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“自由、平等、博爱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理想，不少作品反映了当时资产阶级反封建、争民主的革命热情及其理想中的英雄性格。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时，两耳失聪仍坚持创作。他一生谱写了许多著名的乐曲，主要作品有交响曲九部、钢琴奏鸣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。他的音乐创作，集古典派的大成，开浪漫派的先河，对欧洲音乐艺术的革新与发展，有着极其重要的影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贝多芬在奥地利维也纳逝世，终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。贝多芬是欧洲音乐史上最伟大的音乐家，被人们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乐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的所有作品在世界各地广为传诵，他的成功完全来之自身的艰苦奋斗，直到今日还被人们视为奋斗的楷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97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贝多芬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7524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文中提到的《月光曲》是贝多芬创作的一首著名的钢琴奏鸣曲。课文写的是关于贝多芬谱写《月光曲》的一个传说。“传说”是民间流传的故事，不一定确有其事。但是，民间传说能够反映出人民群众的愿望和好恶。从贝多芬谱写《月光曲》的传说中，我们可以看到贝多芬是怎样一位音乐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1672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1320" y="1447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2720" y="146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1320" y="1927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琴键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5880" y="1905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琴、钢琴等上面装置的白色或黑色的供演奏时按动的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132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70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70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9401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13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谱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5520" y="367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写（歌曲或乐曲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720" y="502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5638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53200" y="1676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44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60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4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444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635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351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8960" y="1870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0840" y="11844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恬静——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1960" y="4191120"/>
            <a:ext cx="22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夜深了，周围（            ）极了，一切都再沉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姑娘那（           ）的脸上嵌着一双水汪汪的大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70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幽静——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0840" y="3657600"/>
            <a:ext cx="54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春天的樱花公园，（            ）的林中小道上不时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三两两的游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片树林远离大路，树木茂盛，显得很（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923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06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苏醒——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1320" y="4191120"/>
            <a:ext cx="50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巨大的教育攻势下，他终于（            ）了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政府交待自己的罪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他刚（           ）过来，就忙问：‘“那些书受损失吗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162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356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3:29:1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7:55Z</dcterms:modified>
  <cp:revision>15</cp:revision>
  <dc:subject>六十铺中小学教育网http://www.lspjy.com</dc:subject>
  <dc:title>六十铺中小学教育网http://www.lspjy.com</dc:title>
</cp:coreProperties>
</file>