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3FA-C98F-4B1F-9DC0-579E587D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52FB-1012-4D0E-9DB8-EFEB243D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0547-CEA2-4806-A17E-0EDBC51C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C18-5E83-4117-9E34-1F43AADC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663-C6E8-4E1F-9E78-8DD9BA5D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F427-998F-4CEA-B469-754AA14B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5D0A-6681-4323-A868-87D8C379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8C7-8A3E-44F0-ABAB-75B2E938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1F3-5EC2-4F62-A236-AC16E0F8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256-7683-44BC-9975-2140B75D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4ED0-8376-4CC6-8274-5CDEFE4A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7A5-0224-4B88-A92A-766D63EA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E041-AA1F-47AF-9A7F-E711207862B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192C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32bits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pa_supplicant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92C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ake 8192C USB Linux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1) step1: uncompress the “rtl8192cu_linux_v2.0.xxxx.2010xxxx.tar.gz” file. (in “driver” direc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rtl8192CU_linux_v2.0.974.20100803.tar.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192C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192C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192c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georgia</cp:lastModifiedBy>
  <dcterms:modified xsi:type="dcterms:W3CDTF">2010-08-04T07:44:51Z</dcterms:modified>
  <cp:revision>102</cp:revision>
  <dc:subject/>
  <dc:title>投影片 1</dc:title>
</cp:coreProperties>
</file>